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ct" ContentType="image/x-pict"/>
  <Override PartName="/ppt/media/image9.pct" ContentType="image/x-pict"/>
  <Override PartName="/ppt/media/image1.jpeg" ContentType="image/jpeg"/>
  <Override PartName="/ppt/media/image4.pct" ContentType="image/x-pict"/>
  <Override PartName="/ppt/media/image2.wmf" ContentType="image/x-wmf"/>
  <Override PartName="/ppt/media/image5.pct" ContentType="image/x-pict"/>
  <Override PartName="/ppt/media/image10.pct" ContentType="image/x-pict"/>
  <Override PartName="/ppt/media/image11.jpeg" ContentType="image/jpeg"/>
  <Override PartName="/ppt/media/image3.pct" ContentType="image/x-pict"/>
  <Override PartName="/ppt/media/image6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1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A07-F1B3-49DC-9382-FD53F15E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 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ether they went to Jamie’s course - assume they know no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arity with metamorphic minerals and ro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ompu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ransform with a Legendre technique - this essentially swaps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- can define the relative changes in S and V by the slope of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 uses: can determine whether a metamorphic reaction would make a good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us determine thermodynamic values for reactions or phases. When combined with volume data, we can use the slope of experimentally-determined reactions to calculate ∆S of the reaction and the entropy of formation of a ph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of looking 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of looking 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of looking 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of looking 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of looking 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 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ether they went to Jamie’s course - assume they know no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arity with metamorphic minerals and ro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LLY a course about thermodynamic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ff3399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ortion of the universe that you wish to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as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Chang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 a system are associated with the 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transfer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an object:  stored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t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op an object:  potenti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ine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up a bicycle tire: 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echan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eat (friction + compress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an acid to a base: 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ff3399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ortion of the universe that you wish to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as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Chang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 a system are associated with the 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transfer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an object:  stored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t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op an object:  potenti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ine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up a bicycle tire: 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echan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eat (friction + compress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an acid to a base: 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ff3399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ortion of the universe that you wish to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as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Chang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 a system are associated with the </a:t>
            </a:r>
            <a:r>
              <a:rPr b="0" lang="en-US" sz="900" spc="-1" strike="noStrike">
                <a:solidFill>
                  <a:srgbClr val="ffff00"/>
                </a:solidFill>
                <a:latin typeface="Arial"/>
              </a:rPr>
              <a:t>transfer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an object:  stored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t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op an object:  potenti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ine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up a bicycle tire: 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echan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eat (friction + compress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 an acid to a base:  chemical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/area. Distance/area =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intains conservation of energy - it cannot be created or lost, be can be transferred from one typ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to note: 1st law does not define a value for U, only how U changes. U is actually very difficult (impossible?) to mea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ssume that P is hydrostatic (no sh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ly related to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s the asymmetry of time - any spontaneous process causes entropy to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hat heat always flows from hot body to cold body - actually cannot be completely reversible. Can’t unmix coffee and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actually related to th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14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 is the change in internal energy due to addition of a tiny amount of component I to the system at constant S, V and quantities of all other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hink of mu as the slope on a plot of internal energy versus moles of a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exam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F6A-B389-4B5F-A24A-C1D1A06B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A8F-8205-4FD8-89D3-47C4A2D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795-4502-459A-96C8-9E75E287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226-56B1-41C7-A240-233820F9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04C-9736-4B06-865D-D37BCDA0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C13-2840-47AB-A953-895DED7E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4E3-F4CA-4613-A57D-62DBB668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75C-8E6C-4761-A689-FD22DCD3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9EE-E5A9-41BB-932A-F1B27B44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C54-ACA0-475F-B0BC-67A86B7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B38-9106-49CC-B177-5CEC1B5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9A0-ADEE-458D-A9F2-3A44D384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3475-D3F1-45F6-9BFF-115BB586F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ct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850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st to Core workshop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introduction to Perple_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61800" y="2082960"/>
            <a:ext cx="9156960" cy="2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ille, March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Cad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2c.jpg"/>
          <p:cNvPicPr/>
          <p:nvPr/>
        </p:nvPicPr>
        <p:blipFill>
          <a:blip r:embed="rId1"/>
          <a:stretch/>
        </p:blipFill>
        <p:spPr>
          <a:xfrm>
            <a:off x="0" y="5886360"/>
            <a:ext cx="9748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TH.wmf"/>
          <p:cNvPicPr/>
          <p:nvPr/>
        </p:nvPicPr>
        <p:blipFill>
          <a:blip r:embed="rId2"/>
          <a:stretch/>
        </p:blipFill>
        <p:spPr>
          <a:xfrm>
            <a:off x="7607160" y="6031080"/>
            <a:ext cx="2159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5880" y="1193760"/>
            <a:ext cx="887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undamental equation that we will use to quantify internal energy. This can be transformed to give various combination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, V,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independent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bb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847960" y="1143000"/>
          <a:ext cx="421020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7960" y="1143000"/>
                    <a:ext cx="42102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11"/>
          <p:cNvGrpSpPr/>
          <p:nvPr/>
        </p:nvGrpSpPr>
        <p:grpSpPr>
          <a:xfrm>
            <a:off x="304920" y="4191120"/>
            <a:ext cx="9296280" cy="2206440"/>
            <a:chOff x="304920" y="4191120"/>
            <a:chExt cx="9296280" cy="2206440"/>
          </a:xfrm>
        </p:grpSpPr>
        <p:graphicFrame>
          <p:nvGraphicFramePr>
            <p:cNvPr id="90" name=""/>
            <p:cNvGraphicFramePr/>
            <p:nvPr/>
          </p:nvGraphicFramePr>
          <p:xfrm>
            <a:off x="1449360" y="4257720"/>
            <a:ext cx="7008840" cy="69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9360" y="4257720"/>
                      <a:ext cx="700884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Rectangle 8"/>
            <p:cNvSpPr/>
            <p:nvPr/>
          </p:nvSpPr>
          <p:spPr>
            <a:xfrm>
              <a:off x="304920" y="4191120"/>
              <a:ext cx="9296280" cy="220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588960" y="5049720"/>
              <a:ext cx="872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bbs free energy will be of most interest to us, sin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e the most obvious choices of independent variables for geologic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bb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9360" y="1320840"/>
          <a:ext cx="700884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1320840"/>
                    <a:ext cx="70088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71520" y="2909880"/>
          <a:ext cx="213048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1520" y="2909880"/>
                    <a:ext cx="21304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413400" y="2909880"/>
          <a:ext cx="195732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3400" y="2909880"/>
                    <a:ext cx="19573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Line 9"/>
          <p:cNvSpPr/>
          <p:nvPr/>
        </p:nvSpPr>
        <p:spPr>
          <a:xfrm flipH="1">
            <a:off x="2146320" y="2013120"/>
            <a:ext cx="2325600" cy="896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5246640" y="2013120"/>
            <a:ext cx="2325600" cy="896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27040" y="4181400"/>
            <a:ext cx="37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707080" y="4181400"/>
            <a:ext cx="37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04920" y="1320840"/>
            <a:ext cx="9296280" cy="69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002120" y="5630760"/>
          <a:ext cx="1901880" cy="9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2120" y="5630760"/>
                    <a:ext cx="19018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15"/>
          <p:cNvSpPr/>
          <p:nvPr/>
        </p:nvSpPr>
        <p:spPr>
          <a:xfrm flipH="1">
            <a:off x="6130800" y="5153040"/>
            <a:ext cx="1441440" cy="896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955880" y="5153040"/>
            <a:ext cx="1795320" cy="896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898600" y="6213600"/>
            <a:ext cx="25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usius-Clapeyr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bb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9360" y="1320840"/>
          <a:ext cx="700884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1320840"/>
                    <a:ext cx="70088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1"/>
          <p:cNvSpPr/>
          <p:nvPr/>
        </p:nvSpPr>
        <p:spPr>
          <a:xfrm>
            <a:off x="304920" y="1320840"/>
            <a:ext cx="9296280" cy="69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58800" y="2336760"/>
            <a:ext cx="85885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(for a while) heat capacity, thermal expansion and isothermal compres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 chemically closed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  <a:ea typeface="ＭＳ Ｐゴシック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s two possible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  <a:ea typeface="ＭＳ Ｐゴシック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nfigurations of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  <a:ea typeface="ＭＳ Ｐゴシック"/>
              </a:rPr>
              <a:t>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the one with the lowest absolute </a:t>
            </a:r>
            <a:r>
              <a:rPr b="0" i="1" lang="en-US" sz="2400" spc="-1" strike="noStrike">
                <a:solidFill>
                  <a:srgbClr val="e57402"/>
                </a:solidFill>
                <a:latin typeface="Arial"/>
                <a:ea typeface="ＭＳ Ｐゴシック"/>
              </a:rPr>
              <a:t>G</a:t>
            </a:r>
            <a:r>
              <a:rPr b="0" i="1" lang="en-US" sz="2400" spc="-1" strike="noStrike">
                <a:solidFill>
                  <a:srgbClr val="e5a002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hould be more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oth have the same absolute </a:t>
            </a:r>
            <a:r>
              <a:rPr b="0" i="1" lang="en-US" sz="2400" spc="-1" strike="noStrike">
                <a:solidFill>
                  <a:srgbClr val="e57402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>
                <a:solidFill>
                  <a:srgbClr val="e5a002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he</a:t>
            </a:r>
            <a:r>
              <a:rPr b="0" lang="en-US" sz="2400" spc="-1" strike="noStrike">
                <a:solidFill>
                  <a:srgbClr val="e5a002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  <a:ea typeface="ＭＳ Ｐゴシック"/>
              </a:rPr>
              <a:t>∆</a:t>
            </a:r>
            <a:r>
              <a:rPr b="0" i="1" lang="en-US" sz="2400" spc="-1" strike="noStrike">
                <a:solidFill>
                  <a:srgbClr val="e57402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>
                <a:solidFill>
                  <a:srgbClr val="e5a002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moving from one state to the other</a:t>
            </a:r>
            <a:r>
              <a:rPr b="0" lang="en-US" sz="2400" spc="-1" strike="noStrike">
                <a:solidFill>
                  <a:srgbClr val="e5a002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0), they have the same relative stability and a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  <a:ea typeface="ＭＳ Ｐゴシック"/>
              </a:rPr>
              <a:t>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tween them is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bb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Fig 5-3"/>
          <p:cNvPicPr/>
          <p:nvPr/>
        </p:nvPicPr>
        <p:blipFill>
          <a:blip r:embed="rId1"/>
          <a:stretch/>
        </p:blipFill>
        <p:spPr>
          <a:xfrm>
            <a:off x="3476520" y="2395440"/>
            <a:ext cx="5686560" cy="3640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4524480" y="603576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between Gibbs free energy and temperature for the solid and liquid forms of a substance at constant pressure.  Aft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inter (2001) An Introduction to Igneous and Metamorphic Petrology. Prentice H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79280" y="2813040"/>
            <a:ext cx="32781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olid more stable than liquid (l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quid more stable than solid (hig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2440" y="4676760"/>
            <a:ext cx="259380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i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reaction occurs a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bb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Fig 5-3"/>
          <p:cNvPicPr/>
          <p:nvPr/>
        </p:nvPicPr>
        <p:blipFill>
          <a:blip r:embed="rId1"/>
          <a:stretch/>
        </p:blipFill>
        <p:spPr>
          <a:xfrm>
            <a:off x="3476520" y="2395440"/>
            <a:ext cx="5686560" cy="36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328680" y="1398600"/>
          <a:ext cx="2130480" cy="103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680" y="1398600"/>
                    <a:ext cx="21304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>
            <a:off x="2384280" y="162864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iqu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79280" y="2813040"/>
            <a:ext cx="32781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olid more stable than liquid (l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quid more stable than solid (hig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2440" y="4676760"/>
            <a:ext cx="259380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i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reaction occurs a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524480" y="603252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between Gibbs free energy and temperature for the solid and liquid forms of a substance at constant pressure.  Aft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inter (2001) An Introduction to Igneous and Metamorphic Petrology. Prentice H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program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58800" y="1143000"/>
            <a:ext cx="858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undamentally different approaches are commonly-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the lowest absolu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predict the most stable configuration of phas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</a:t>
            </a:r>
            <a:r>
              <a:rPr b="0" lang="en-US" sz="2400" spc="-1" strike="noStrike">
                <a:solidFill>
                  <a:srgbClr val="ff0300"/>
                </a:solidFill>
                <a:latin typeface="Arial"/>
                <a:ea typeface="ＭＳ Ｐゴシック"/>
              </a:rPr>
              <a:t>Perple_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nno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the reactions between phases by finding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equal between configurations (∆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</a:t>
            </a:r>
            <a:r>
              <a:rPr b="0" lang="en-US" sz="2400" spc="-1" strike="noStrike">
                <a:solidFill>
                  <a:srgbClr val="ff0300"/>
                </a:solidFill>
                <a:latin typeface="Arial"/>
                <a:ea typeface="ＭＳ Ｐゴシック"/>
              </a:rPr>
              <a:t>THERMOCAL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Holland &amp; Po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pproaches are very simple for chemically simple systems, for 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program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54080" y="3033720"/>
            <a:ext cx="959796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know the entropy and volume of sillimanite and andalusite (which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t), we can easily calculat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along which they both occ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te + Garnet + Muscovite = Biotite + Staurolite + Quartz +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668600" y="2222640"/>
          <a:ext cx="657540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2222640"/>
                    <a:ext cx="65754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11"/>
          <p:cNvSpPr/>
          <p:nvPr/>
        </p:nvSpPr>
        <p:spPr>
          <a:xfrm>
            <a:off x="1569960" y="1371600"/>
            <a:ext cx="676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limanite 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dalu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84120" y="4646520"/>
            <a:ext cx="909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KFMASH pseudo"/>
          <p:cNvPicPr/>
          <p:nvPr/>
        </p:nvPicPr>
        <p:blipFill>
          <a:blip r:embed="rId1"/>
          <a:stretch/>
        </p:blipFill>
        <p:spPr>
          <a:xfrm>
            <a:off x="5002200" y="1224000"/>
            <a:ext cx="4897440" cy="5002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0" y="5246640"/>
            <a:ext cx="4952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te + Garnet + Muscovit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ite + Staurolite + Quartz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95440" y="2924280"/>
          <a:ext cx="3460680" cy="100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440" y="2924280"/>
                    <a:ext cx="34606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8"/>
          <p:cNvSpPr/>
          <p:nvPr/>
        </p:nvSpPr>
        <p:spPr>
          <a:xfrm>
            <a:off x="0" y="1525680"/>
            <a:ext cx="443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limanite 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dalu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384120" y="4646520"/>
            <a:ext cx="410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re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71680" y="2031840"/>
            <a:ext cx="87627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k Spear’s book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tamorphic Phase Equilibria and Pressure-Temperature-Time Paths)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etty good for the thermodynamic laws and their derivation (especially chapter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re chapters 1-4 of Jamie Connolly’s ETH course notes (http://www.perplex.ethz.ch/thermo_cou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61800" y="2082960"/>
            <a:ext cx="915696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A very brief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askerville"/>
              </a:rPr>
              <a:t>American Oxford Diction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"/>
              </a:rPr>
              <a:t>Thermodynamics</a:t>
            </a:r>
            <a:r>
              <a:rPr b="0" lang="en-US" sz="2600" spc="-1" strike="noStrike">
                <a:solidFill>
                  <a:srgbClr val="000000"/>
                </a:solidFill>
                <a:latin typeface="Baskerville"/>
              </a:rPr>
              <a:t>: the branch of physical science that deals with </a:t>
            </a:r>
            <a:r>
              <a:rPr b="0" lang="en-US" sz="2600" spc="-1" strike="noStrike">
                <a:solidFill>
                  <a:srgbClr val="000000"/>
                </a:solidFill>
                <a:latin typeface="Baskervil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skerville"/>
              </a:rPr>
              <a:t>the relations between heat and other forms of energy (such as </a:t>
            </a:r>
            <a:r>
              <a:rPr b="0" lang="en-US" sz="2600" spc="-1" strike="noStrike">
                <a:solidFill>
                  <a:srgbClr val="000000"/>
                </a:solidFill>
                <a:latin typeface="Baskervil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skerville"/>
              </a:rPr>
              <a:t>mechanical, electrical, or chemical energy), and, by extension, of </a:t>
            </a:r>
            <a:r>
              <a:rPr b="0" lang="en-US" sz="2600" spc="-1" strike="noStrike">
                <a:solidFill>
                  <a:srgbClr val="000000"/>
                </a:solidFill>
                <a:latin typeface="Baskervil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askerville"/>
              </a:rPr>
              <a:t>the relationships and interconvertibility of all forms of ener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43040" y="85104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st to Core workshop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introduction to Perple_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841400"/>
            <a:ext cx="8420040" cy="35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"/>
              </a:rPr>
              <a:t>American Oxford Dictionary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Baskerville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law of thermodynamics 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</a:rPr>
              <a:t>states the equivalence of heat and work and reaffirms the principle of conservation of energy.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law 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</a:rPr>
              <a:t>states that heat does not of itself pass from a cooler to a hotter body. Another, equivalent, formulation of the second law is that the entropy of a closed system can only increase.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aw </a:t>
            </a:r>
            <a:r>
              <a:rPr b="0" lang="en-US" sz="2000" spc="-1" strike="noStrike">
                <a:solidFill>
                  <a:srgbClr val="000000"/>
                </a:solidFill>
                <a:latin typeface="Baskerville"/>
              </a:rPr>
              <a:t>(also called Nernst's heat theorem) states that it is impossible to reduce the temperature of a system to absolute zero in a finite number of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28"/>
          <p:cNvSpPr/>
          <p:nvPr/>
        </p:nvSpPr>
        <p:spPr>
          <a:xfrm>
            <a:off x="328320" y="225360"/>
            <a:ext cx="85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5000" y="1523520"/>
            <a:ext cx="9163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ome part of the universe that you want to study and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surround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verything else in the universe that is not in ou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solated fro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urroundings in terms of both matt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882720" y="3962520"/>
            <a:ext cx="812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hanges in a system are associated with the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transfer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176480" y="5105520"/>
            <a:ext cx="7551720" cy="99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systems tend toward states of</a:t>
            </a:r>
            <a:r>
              <a:rPr b="1" lang="en-US" sz="2800" spc="-1" strike="noStrike">
                <a:solidFill>
                  <a:srgbClr val="ffb2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57402"/>
                </a:solidFill>
                <a:latin typeface="Arial"/>
              </a:rPr>
              <a:t>minimum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/components definition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95360" y="1568520"/>
            <a:ext cx="887400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case, a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ikely to be a mineral or a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, it is comprised of chemical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hemical variability in that mineral or a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 be FeO, MgO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to describe oliv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 mechanically separable and chem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ous portion of the system, e.g. a melt, a fluid, or a mineral in a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thing that changes the natur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s within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/components definition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95360" y="1447920"/>
            <a:ext cx="8874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s is primarily concerned with macroscopic energies of microscopic processes that we might or might not fully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nvenient to group all of the variables required into two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Intensive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independent of the amount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ressu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Temperatu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Extensive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dependent on the amount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Volum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amp; Entrop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/components definition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26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7"/>
          <p:cNvSpPr/>
          <p:nvPr/>
        </p:nvSpPr>
        <p:spPr>
          <a:xfrm>
            <a:off x="515880" y="1447920"/>
            <a:ext cx="887436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Law of thermodynam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 in the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internal energy (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thermodynamic system is equal to the amount of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heat energy (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ed to the system plus the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work (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ne on the system by the surrou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) = N•m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orce/area [N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15880" y="1447920"/>
            <a:ext cx="887436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aw of thermodynam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troduces the notion of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entropy (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relates change in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temperature </a:t>
            </a:r>
            <a:r>
              <a:rPr b="0" i="1" lang="en-US" sz="2400" spc="-1" strike="noStrike">
                <a:solidFill>
                  <a:srgbClr val="e57402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e5740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heat energy (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e5740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ed to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n be substituted into the first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43400" y="3060720"/>
          <a:ext cx="1200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60720"/>
                    <a:ext cx="1200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832200" y="5299200"/>
          <a:ext cx="2241720" cy="34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2200" y="5299200"/>
                    <a:ext cx="224172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1400" y="0"/>
            <a:ext cx="982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roduction to (or some revision on)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5880" y="1143000"/>
            <a:ext cx="887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d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 ≤ 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d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 - 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e57402"/>
                </a:solidFill>
                <a:latin typeface="Arial"/>
              </a:rPr>
              <a:t>d</a:t>
            </a:r>
            <a:r>
              <a:rPr b="1" i="1" lang="en-US" sz="2400" spc="-1" strike="noStrike">
                <a:solidFill>
                  <a:srgbClr val="e57402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us about the energetics of a system without chemical change (i.e. a homogenous phase with no compositional change during the proc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energetic changes coming from mass transfer we use the concept of chemical potential (Gibbs, 18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ing the energies associated with all components in the system and adding to our combined laws equation yie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-3049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193920" y="3570120"/>
          <a:ext cx="351972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3920" y="3570120"/>
                    <a:ext cx="35197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847960" y="5708520"/>
          <a:ext cx="421020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7960" y="5708520"/>
                    <a:ext cx="42102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4:18:04Z</dcterms:created>
  <dc:creator>Mark Caddick</dc:creator>
  <dc:description/>
  <dc:language>en-US</dc:language>
  <cp:lastModifiedBy>Mark Caddick</cp:lastModifiedBy>
  <cp:lastPrinted>2008-02-17T12:38:17Z</cp:lastPrinted>
  <dcterms:modified xsi:type="dcterms:W3CDTF">2009-02-28T15:55:41Z</dcterms:modified>
  <cp:revision>284</cp:revision>
  <dc:subject/>
  <dc:title>PowerPoint Presentation</dc:title>
</cp:coreProperties>
</file>