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ct" ContentType="image/x-pict"/>
  <Override PartName="/ppt/media/image4.pct" ContentType="image/x-pict"/>
  <Override PartName="/ppt/media/image5.pct" ContentType="image/x-pict"/>
  <Override PartName="/ppt/media/image6.jpeg" ContentType="image/jpeg"/>
  <Override PartName="/ppt/media/image10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media/image11.pct" ContentType="image/x-pic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BBBF-4D88-4B37-844A-60253BFC2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0427-D977-47B4-A2C3-092C91610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7F38-16A4-48AF-8891-ECAA9D1F7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B6AF-32F2-41B8-BE34-146A3A524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B095-685C-46F2-84B3-47B214115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A2CF-40E0-4738-9562-54496083D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98D0-993D-4301-B786-CF6860094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C101-2DB3-4770-BD64-36FB8FDAD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B18B-4605-4F82-A319-C26523AF6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9E72-5E71-4E8F-80C9-193C1B3EE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B082-8714-47E4-96D5-73776D62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159-408D-447B-8660-7DDF0B6A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FB5-FEAC-4AA6-B623-1FB4876E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668-5BA6-4866-ABD9-7DFCF760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163-EB60-4159-8B28-FC4DE567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E10-188F-49A6-A7F2-A1D2B31A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61E-A7B3-47A3-AB3F-13B4DAA9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4751-8644-4C20-8F30-6C199005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4A25-6DCF-477E-9A18-03AB5985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A2D-5641-4A32-9624-FED82F10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493-9211-4DC6-B0A0-9EE21C42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7835-4AC6-4371-9522-7C194280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C26E-7471-4F4D-86DA-673A6CAA5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ct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ct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ct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33360" y="2082960"/>
            <a:ext cx="8453520" cy="28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: What data is Perple_X actually u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85800" y="851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ust to Core workshop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 introduction to Perple_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c2c.jpg"/>
          <p:cNvPicPr/>
          <p:nvPr/>
        </p:nvPicPr>
        <p:blipFill>
          <a:blip r:embed="rId1"/>
          <a:stretch/>
        </p:blipFill>
        <p:spPr>
          <a:xfrm>
            <a:off x="0" y="5886360"/>
            <a:ext cx="90000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ETH.wmf"/>
          <p:cNvPicPr/>
          <p:nvPr/>
        </p:nvPicPr>
        <p:blipFill>
          <a:blip r:embed="rId2"/>
          <a:stretch/>
        </p:blipFill>
        <p:spPr>
          <a:xfrm>
            <a:off x="7021440" y="6031080"/>
            <a:ext cx="19940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oes T’Calc d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27"/>
          <p:cNvSpPr/>
          <p:nvPr/>
        </p:nvSpPr>
        <p:spPr>
          <a:xfrm>
            <a:off x="361800" y="399564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28"/>
          <p:cNvSpPr/>
          <p:nvPr/>
        </p:nvSpPr>
        <p:spPr>
          <a:xfrm>
            <a:off x="1020600" y="977760"/>
            <a:ext cx="710100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ple_X finds an optimum set of pseudo-compounds  for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, T,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tions of interest. This is based on available information o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, S, 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end-members, combining these into solution-ph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ing some complexity (e.g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e could write a simple equilibria that we could solve by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00120" y="4838760"/>
          <a:ext cx="614196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4838760"/>
                    <a:ext cx="61419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1030"/>
          <p:cNvSpPr/>
          <p:nvPr/>
        </p:nvSpPr>
        <p:spPr>
          <a:xfrm>
            <a:off x="1189080" y="4160880"/>
            <a:ext cx="676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yanite =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Sillima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31"/>
          <p:cNvSpPr/>
          <p:nvPr/>
        </p:nvSpPr>
        <p:spPr>
          <a:xfrm>
            <a:off x="936720" y="5589720"/>
            <a:ext cx="72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univariant, so eac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one uniq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which this occurs, we just ne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ach pha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oes T’Calc d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61800" y="399564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65160" y="149400"/>
            <a:ext cx="86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ract of THERMOCALC molar thermodynamic properties, Table 5 of Holland &amp; Powell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641520"/>
          <a:ext cx="9144000" cy="60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1520"/>
                    <a:ext cx="9144000" cy="60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" name="Text Box 6"/>
          <p:cNvSpPr/>
          <p:nvPr/>
        </p:nvSpPr>
        <p:spPr>
          <a:xfrm>
            <a:off x="343080" y="1476360"/>
            <a:ext cx="84582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se are the value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t 25 ˚C, atmospheric pressu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1014480" y="641520"/>
            <a:ext cx="2440080" cy="607680"/>
          </a:xfrm>
          <a:prstGeom prst="rect">
            <a:avLst/>
          </a:prstGeom>
          <a:noFill/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 flipH="1">
            <a:off x="361440" y="1249200"/>
            <a:ext cx="652680" cy="22716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3454560" y="1249200"/>
            <a:ext cx="5346720" cy="22716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039"/>
          <p:cNvSpPr/>
          <p:nvPr/>
        </p:nvSpPr>
        <p:spPr>
          <a:xfrm>
            <a:off x="4708440" y="1879560"/>
            <a:ext cx="3756240" cy="1004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oes T’Calc d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27"/>
          <p:cNvSpPr/>
          <p:nvPr/>
        </p:nvSpPr>
        <p:spPr>
          <a:xfrm>
            <a:off x="361800" y="399564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33"/>
          <p:cNvSpPr/>
          <p:nvPr/>
        </p:nvSpPr>
        <p:spPr>
          <a:xfrm>
            <a:off x="65160" y="149400"/>
            <a:ext cx="86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ract of THERMOCALC molar thermodynamic properties, Table 5 of Holland &amp; Powell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641520"/>
          <a:ext cx="9144000" cy="60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1520"/>
                    <a:ext cx="9144000" cy="60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749840" y="1879560"/>
          <a:ext cx="371484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49840" y="1879560"/>
                    <a:ext cx="37148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 Box 1038"/>
          <p:cNvSpPr/>
          <p:nvPr/>
        </p:nvSpPr>
        <p:spPr>
          <a:xfrm>
            <a:off x="4738320" y="2427120"/>
            <a:ext cx="206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J mo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40"/>
          <p:cNvSpPr/>
          <p:nvPr/>
        </p:nvSpPr>
        <p:spPr>
          <a:xfrm>
            <a:off x="3454560" y="1249200"/>
            <a:ext cx="1253880" cy="63036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41"/>
          <p:cNvSpPr/>
          <p:nvPr/>
        </p:nvSpPr>
        <p:spPr>
          <a:xfrm flipH="1" flipV="1">
            <a:off x="6413400" y="1248840"/>
            <a:ext cx="2044800" cy="63036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42"/>
          <p:cNvSpPr/>
          <p:nvPr/>
        </p:nvSpPr>
        <p:spPr>
          <a:xfrm flipV="1">
            <a:off x="345456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43"/>
          <p:cNvSpPr/>
          <p:nvPr/>
        </p:nvSpPr>
        <p:spPr>
          <a:xfrm flipV="1">
            <a:off x="641340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44"/>
          <p:cNvSpPr/>
          <p:nvPr/>
        </p:nvSpPr>
        <p:spPr>
          <a:xfrm>
            <a:off x="3454560" y="641520"/>
            <a:ext cx="2958840" cy="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062"/>
          <p:cNvGrpSpPr/>
          <p:nvPr/>
        </p:nvGrpSpPr>
        <p:grpSpPr>
          <a:xfrm>
            <a:off x="1522440" y="2941560"/>
            <a:ext cx="6180120" cy="3794040"/>
            <a:chOff x="1522440" y="2941560"/>
            <a:chExt cx="6180120" cy="3794040"/>
          </a:xfrm>
        </p:grpSpPr>
        <p:sp>
          <p:nvSpPr>
            <p:cNvPr id="83" name="Rectangle 1061"/>
            <p:cNvSpPr/>
            <p:nvPr/>
          </p:nvSpPr>
          <p:spPr>
            <a:xfrm>
              <a:off x="1522440" y="2946240"/>
              <a:ext cx="6180120" cy="37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1059" descr="output"/>
            <p:cNvPicPr/>
            <p:nvPr/>
          </p:nvPicPr>
          <p:blipFill>
            <a:blip r:embed="rId5"/>
            <a:stretch/>
          </p:blipFill>
          <p:spPr>
            <a:xfrm>
              <a:off x="1623960" y="3041640"/>
              <a:ext cx="5896080" cy="36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1060"/>
            <p:cNvSpPr/>
            <p:nvPr/>
          </p:nvSpPr>
          <p:spPr>
            <a:xfrm>
              <a:off x="2286000" y="2941560"/>
              <a:ext cx="525312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of kyanite as a function o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using tabulated values o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997360" y="3429000"/>
            <a:ext cx="291960" cy="334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11200" y="3618000"/>
            <a:ext cx="264960" cy="34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4708440" y="1879560"/>
            <a:ext cx="3756240" cy="1004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oes T’Calc d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61800" y="399564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65160" y="149400"/>
            <a:ext cx="86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ract of THERMOCALC molar thermodynamic properties, Table 5 of Holland &amp; Powell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641520"/>
          <a:ext cx="9144000" cy="60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1520"/>
                    <a:ext cx="9144000" cy="60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749840" y="1879560"/>
          <a:ext cx="371484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49840" y="1879560"/>
                    <a:ext cx="37148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10"/>
          <p:cNvSpPr/>
          <p:nvPr/>
        </p:nvSpPr>
        <p:spPr>
          <a:xfrm>
            <a:off x="4738320" y="2427120"/>
            <a:ext cx="206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J mo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3454560" y="1249200"/>
            <a:ext cx="1253880" cy="63036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 flipH="1" flipV="1">
            <a:off x="6413400" y="1248840"/>
            <a:ext cx="2044800" cy="63036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 flipV="1">
            <a:off x="345456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 flipV="1">
            <a:off x="641340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3454560" y="641520"/>
            <a:ext cx="2958840" cy="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 flipV="1">
            <a:off x="520560" y="1249200"/>
            <a:ext cx="1800360" cy="236880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7"/>
          <p:cNvSpPr/>
          <p:nvPr/>
        </p:nvSpPr>
        <p:spPr>
          <a:xfrm flipV="1">
            <a:off x="776160" y="1249200"/>
            <a:ext cx="2102040" cy="236880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8"/>
          <p:cNvSpPr/>
          <p:nvPr/>
        </p:nvSpPr>
        <p:spPr>
          <a:xfrm flipV="1">
            <a:off x="287820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232092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2320920" y="641520"/>
            <a:ext cx="557280" cy="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1"/>
          <p:cNvSpPr/>
          <p:nvPr/>
        </p:nvSpPr>
        <p:spPr>
          <a:xfrm flipH="1">
            <a:off x="2997000" y="2884320"/>
            <a:ext cx="1711080" cy="544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2"/>
          <p:cNvSpPr/>
          <p:nvPr/>
        </p:nvSpPr>
        <p:spPr>
          <a:xfrm flipV="1">
            <a:off x="3289320" y="2883960"/>
            <a:ext cx="5175360" cy="544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5160" y="3429000"/>
          <a:ext cx="358596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0" y="3429000"/>
                    <a:ext cx="35859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997360" y="3429000"/>
            <a:ext cx="291960" cy="334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11200" y="3618000"/>
            <a:ext cx="264960" cy="34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708440" y="1879560"/>
            <a:ext cx="3756240" cy="1004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oes T’Calc d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61800" y="399564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65160" y="149400"/>
            <a:ext cx="86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ract of THERMOCALC molar thermodynamic properties, Table 5 of Holland &amp; Powell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641520"/>
          <a:ext cx="9144000" cy="60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1520"/>
                    <a:ext cx="9144000" cy="60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749840" y="1879560"/>
          <a:ext cx="371484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49840" y="1879560"/>
                    <a:ext cx="37148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10"/>
          <p:cNvSpPr/>
          <p:nvPr/>
        </p:nvSpPr>
        <p:spPr>
          <a:xfrm>
            <a:off x="4738320" y="2427120"/>
            <a:ext cx="206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J mo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454560" y="1249200"/>
            <a:ext cx="1253880" cy="63036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6413400" y="1248840"/>
            <a:ext cx="2044800" cy="63036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V="1">
            <a:off x="345456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641340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3454560" y="641520"/>
            <a:ext cx="2958840" cy="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8920" y="4570560"/>
          <a:ext cx="535140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8920" y="4570560"/>
                    <a:ext cx="53514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88920" y="5756400"/>
          <a:ext cx="8966160" cy="72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8920" y="5756400"/>
                    <a:ext cx="89661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Line 18"/>
          <p:cNvSpPr/>
          <p:nvPr/>
        </p:nvSpPr>
        <p:spPr>
          <a:xfrm flipV="1">
            <a:off x="520560" y="1249200"/>
            <a:ext cx="1800360" cy="236880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9"/>
          <p:cNvSpPr/>
          <p:nvPr/>
        </p:nvSpPr>
        <p:spPr>
          <a:xfrm flipV="1">
            <a:off x="776160" y="1249200"/>
            <a:ext cx="2102040" cy="236880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 flipV="1">
            <a:off x="287820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232092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2320920" y="641520"/>
            <a:ext cx="557280" cy="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4"/>
          <p:cNvSpPr/>
          <p:nvPr/>
        </p:nvSpPr>
        <p:spPr>
          <a:xfrm flipH="1">
            <a:off x="2997000" y="2884320"/>
            <a:ext cx="1711080" cy="544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5"/>
          <p:cNvSpPr/>
          <p:nvPr/>
        </p:nvSpPr>
        <p:spPr>
          <a:xfrm flipV="1">
            <a:off x="3289320" y="2883960"/>
            <a:ext cx="5175360" cy="544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6"/>
          <p:cNvSpPr/>
          <p:nvPr/>
        </p:nvSpPr>
        <p:spPr>
          <a:xfrm>
            <a:off x="1863720" y="4106880"/>
            <a:ext cx="0" cy="463680"/>
          </a:xfrm>
          <a:prstGeom prst="line">
            <a:avLst/>
          </a:prstGeom>
          <a:ln w="25560">
            <a:solidFill>
              <a:srgbClr val="ff0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7"/>
          <p:cNvSpPr/>
          <p:nvPr/>
        </p:nvSpPr>
        <p:spPr>
          <a:xfrm>
            <a:off x="1863720" y="5292720"/>
            <a:ext cx="0" cy="463680"/>
          </a:xfrm>
          <a:prstGeom prst="line">
            <a:avLst/>
          </a:prstGeom>
          <a:ln w="25560">
            <a:solidFill>
              <a:srgbClr val="ff0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5160" y="3429000"/>
          <a:ext cx="3585960" cy="67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60" y="3429000"/>
                    <a:ext cx="35859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29"/>
          <p:cNvSpPr/>
          <p:nvPr/>
        </p:nvSpPr>
        <p:spPr>
          <a:xfrm>
            <a:off x="7464600" y="641520"/>
            <a:ext cx="1679400" cy="607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oes T’Calc d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5160" y="149400"/>
            <a:ext cx="86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ract of THERMOCALC molar thermodynamic properties, Table 5 of Holland &amp; Powell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641520"/>
          <a:ext cx="9144000" cy="60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1520"/>
                    <a:ext cx="9144000" cy="60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7" name="Rectangle 11"/>
          <p:cNvSpPr/>
          <p:nvPr/>
        </p:nvSpPr>
        <p:spPr>
          <a:xfrm>
            <a:off x="2824200" y="630360"/>
            <a:ext cx="684000" cy="620640"/>
          </a:xfrm>
          <a:prstGeom prst="rect">
            <a:avLst/>
          </a:prstGeom>
          <a:noFill/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6432480" y="630360"/>
            <a:ext cx="540000" cy="618840"/>
          </a:xfrm>
          <a:prstGeom prst="rect">
            <a:avLst/>
          </a:prstGeom>
          <a:noFill/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26"/>
          <p:cNvGrpSpPr/>
          <p:nvPr/>
        </p:nvGrpSpPr>
        <p:grpSpPr>
          <a:xfrm>
            <a:off x="0" y="1249200"/>
            <a:ext cx="6972480" cy="3584160"/>
            <a:chOff x="0" y="1249200"/>
            <a:chExt cx="6972480" cy="3584160"/>
          </a:xfrm>
        </p:grpSpPr>
        <p:sp>
          <p:nvSpPr>
            <p:cNvPr id="150" name="Line 12"/>
            <p:cNvSpPr/>
            <p:nvPr/>
          </p:nvSpPr>
          <p:spPr>
            <a:xfrm flipH="1">
              <a:off x="950760" y="1251000"/>
              <a:ext cx="2557440" cy="2403360"/>
            </a:xfrm>
            <a:prstGeom prst="line">
              <a:avLst/>
            </a:prstGeom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3"/>
            <p:cNvSpPr/>
            <p:nvPr/>
          </p:nvSpPr>
          <p:spPr>
            <a:xfrm flipH="1">
              <a:off x="685800" y="1249200"/>
              <a:ext cx="2138400" cy="2405160"/>
            </a:xfrm>
            <a:prstGeom prst="line">
              <a:avLst/>
            </a:prstGeom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6"/>
            <p:cNvSpPr/>
            <p:nvPr/>
          </p:nvSpPr>
          <p:spPr>
            <a:xfrm flipH="1">
              <a:off x="2324160" y="1251000"/>
              <a:ext cx="4108320" cy="2403360"/>
            </a:xfrm>
            <a:prstGeom prst="line">
              <a:avLst/>
            </a:prstGeom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7"/>
            <p:cNvSpPr/>
            <p:nvPr/>
          </p:nvSpPr>
          <p:spPr>
            <a:xfrm flipH="1">
              <a:off x="4130640" y="1251000"/>
              <a:ext cx="2841840" cy="2403360"/>
            </a:xfrm>
            <a:prstGeom prst="line">
              <a:avLst/>
            </a:prstGeom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 flipV="1">
              <a:off x="3882960" y="2741400"/>
              <a:ext cx="689040" cy="912600"/>
            </a:xfrm>
            <a:prstGeom prst="line">
              <a:avLst/>
            </a:prstGeom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0"/>
            <p:cNvSpPr/>
            <p:nvPr/>
          </p:nvSpPr>
          <p:spPr>
            <a:xfrm flipH="1">
              <a:off x="2571840" y="2741760"/>
              <a:ext cx="2000160" cy="912600"/>
            </a:xfrm>
            <a:prstGeom prst="line">
              <a:avLst/>
            </a:prstGeom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2"/>
            <p:cNvSpPr/>
            <p:nvPr/>
          </p:nvSpPr>
          <p:spPr>
            <a:xfrm>
              <a:off x="0" y="3627360"/>
              <a:ext cx="420840" cy="33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"/>
            <p:cNvSpPr/>
            <p:nvPr/>
          </p:nvSpPr>
          <p:spPr>
            <a:xfrm>
              <a:off x="2324160" y="3654360"/>
              <a:ext cx="247680" cy="27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"/>
            <p:cNvSpPr/>
            <p:nvPr/>
          </p:nvSpPr>
          <p:spPr>
            <a:xfrm>
              <a:off x="3882960" y="3654360"/>
              <a:ext cx="247680" cy="27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693720" y="3654360"/>
              <a:ext cx="257040" cy="27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1"/>
            <p:cNvSpPr/>
            <p:nvPr/>
          </p:nvSpPr>
          <p:spPr>
            <a:xfrm>
              <a:off x="651240" y="4373640"/>
              <a:ext cx="305640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of interest, 1 at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3"/>
            <p:cNvSpPr/>
            <p:nvPr/>
          </p:nvSpPr>
          <p:spPr>
            <a:xfrm>
              <a:off x="420840" y="3965400"/>
              <a:ext cx="222120" cy="408240"/>
            </a:xfrm>
            <a:prstGeom prst="line">
              <a:avLst/>
            </a:prstGeom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2" name=""/>
          <p:cNvGraphicFramePr/>
          <p:nvPr/>
        </p:nvGraphicFramePr>
        <p:xfrm>
          <a:off x="65160" y="3533760"/>
          <a:ext cx="5546520" cy="4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0" y="3533760"/>
                    <a:ext cx="55465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Line 28"/>
          <p:cNvSpPr/>
          <p:nvPr/>
        </p:nvSpPr>
        <p:spPr>
          <a:xfrm flipH="1">
            <a:off x="1965240" y="1251000"/>
            <a:ext cx="1542960" cy="14428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590840" y="1249200"/>
            <a:ext cx="1233360" cy="138132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4160880" y="1251000"/>
            <a:ext cx="2271600" cy="131616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5319360" y="1251000"/>
            <a:ext cx="1652760" cy="139860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913320" y="2265480"/>
            <a:ext cx="22654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25 ˚C, 1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461040" y="2265480"/>
            <a:ext cx="321984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al expansivity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2"/>
          <p:cNvSpPr/>
          <p:nvPr/>
        </p:nvSpPr>
        <p:spPr>
          <a:xfrm>
            <a:off x="7464600" y="641520"/>
            <a:ext cx="1679400" cy="607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6"/>
          <p:cNvSpPr/>
          <p:nvPr/>
        </p:nvSpPr>
        <p:spPr>
          <a:xfrm>
            <a:off x="5800680" y="5792760"/>
            <a:ext cx="750960" cy="5112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3627360"/>
            <a:ext cx="420840" cy="33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51240" y="4373640"/>
            <a:ext cx="30564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interest, 1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420840" y="3965400"/>
            <a:ext cx="222120" cy="40824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oes T’Calc d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65160" y="149400"/>
            <a:ext cx="86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ract of THERMOCALC molar thermodynamic properties, Table 5 of Holland &amp; Powell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641520"/>
          <a:ext cx="9144000" cy="60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1520"/>
                    <a:ext cx="9144000" cy="60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9" name="Text Box 10"/>
          <p:cNvSpPr/>
          <p:nvPr/>
        </p:nvSpPr>
        <p:spPr>
          <a:xfrm>
            <a:off x="5800680" y="2874960"/>
            <a:ext cx="32767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k modulus (degree of incompressi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5160" y="3533760"/>
          <a:ext cx="5546520" cy="4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0" y="3533760"/>
                    <a:ext cx="55465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Line 12"/>
          <p:cNvSpPr/>
          <p:nvPr/>
        </p:nvSpPr>
        <p:spPr>
          <a:xfrm flipV="1">
            <a:off x="5800680" y="1260000"/>
            <a:ext cx="1143000" cy="1614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 flipH="1" flipV="1">
            <a:off x="7483320" y="1260000"/>
            <a:ext cx="1571760" cy="1614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6734160" y="5667480"/>
            <a:ext cx="318960" cy="371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7045200" y="5667480"/>
            <a:ext cx="255600" cy="37152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0"/>
          <p:cNvSpPr/>
          <p:nvPr/>
        </p:nvSpPr>
        <p:spPr>
          <a:xfrm>
            <a:off x="7918560" y="6103800"/>
            <a:ext cx="255600" cy="37152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3716280" y="4849920"/>
            <a:ext cx="3017880" cy="81756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867280" y="5603760"/>
          <a:ext cx="3187800" cy="87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5603760"/>
                    <a:ext cx="31878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24"/>
          <p:cNvSpPr/>
          <p:nvPr/>
        </p:nvSpPr>
        <p:spPr>
          <a:xfrm flipH="1">
            <a:off x="7162920" y="3716280"/>
            <a:ext cx="320400" cy="1951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>
            <a:off x="7483320" y="3716280"/>
            <a:ext cx="435240" cy="17748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307800" y="5683320"/>
            <a:ext cx="4264200" cy="764640"/>
          </a:xfrm>
          <a:prstGeom prst="rect">
            <a:avLst/>
          </a:prstGeom>
          <a:solidFill>
            <a:srgbClr val="fff119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at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interes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ased on the Murnaghan E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 flipH="1" flipV="1">
            <a:off x="4571640" y="5683320"/>
            <a:ext cx="1228680" cy="109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9"/>
          <p:cNvSpPr/>
          <p:nvPr/>
        </p:nvSpPr>
        <p:spPr>
          <a:xfrm flipH="1">
            <a:off x="4571640" y="6303960"/>
            <a:ext cx="1228680" cy="2206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0"/>
          <p:cNvSpPr/>
          <p:nvPr/>
        </p:nvSpPr>
        <p:spPr>
          <a:xfrm>
            <a:off x="7464600" y="641520"/>
            <a:ext cx="1679400" cy="607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6943680" y="641520"/>
            <a:ext cx="539640" cy="6188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oes T’Calc d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5160" y="149400"/>
            <a:ext cx="86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ract of THERMOCALC molar thermodynamic properties, Table 5 of Holland &amp; Powell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641520"/>
          <a:ext cx="9144000" cy="60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1520"/>
                    <a:ext cx="9144000" cy="60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1" name="Text Box 10"/>
          <p:cNvSpPr/>
          <p:nvPr/>
        </p:nvSpPr>
        <p:spPr>
          <a:xfrm>
            <a:off x="1071720" y="2236680"/>
            <a:ext cx="699912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thus use the tabulated data, with the correct set of equations, to extrapolate the thermodynamic properti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interest - this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at THERMOCALC d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ndling of data is explained more fully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LL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T. J. B. &amp; 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W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R. (1998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. Metamorphic Ge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309-34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08:49:27Z</dcterms:created>
  <dc:creator>Mark Caddick</dc:creator>
  <dc:description/>
  <dc:language>en-US</dc:language>
  <cp:lastModifiedBy>Mark Caddick</cp:lastModifiedBy>
  <cp:lastPrinted>2008-03-10T17:53:05Z</cp:lastPrinted>
  <dcterms:modified xsi:type="dcterms:W3CDTF">2009-02-28T16:15:41Z</dcterms:modified>
  <cp:revision>142</cp:revision>
  <dc:subject/>
  <dc:title>PowerPoint Presentation</dc:title>
</cp:coreProperties>
</file>