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7.wmf" ContentType="image/x-wmf"/>
  <Override PartName="/ppt/media/image8.png" ContentType="image/png"/>
  <Override PartName="/ppt/media/image16.wmf" ContentType="image/x-wmf"/>
  <Override PartName="/ppt/media/image11.wmf" ContentType="image/x-wmf"/>
  <Override PartName="/ppt/media/image3.png" ContentType="image/png"/>
  <Override PartName="/ppt/media/image22.wmf" ContentType="image/x-wmf"/>
  <Override PartName="/ppt/media/image12.jpeg" ContentType="image/jpeg"/>
  <Override PartName="/ppt/media/image21.wmf" ContentType="image/x-wmf"/>
  <Override PartName="/ppt/media/image19.wmf" ContentType="image/x-wmf"/>
  <Override PartName="/ppt/media/image4.png" ContentType="image/png"/>
  <Override PartName="/ppt/media/image13.jpeg" ContentType="image/jpeg"/>
  <Override PartName="/ppt/media/image20.wmf" ContentType="image/x-wmf"/>
  <Override PartName="/ppt/media/image18.wmf" ContentType="image/x-wmf"/>
  <Override PartName="/ppt/media/image2.wmf" ContentType="image/x-wmf"/>
  <Override PartName="/ppt/media/image6.png" ContentType="image/png"/>
  <Override PartName="/ppt/media/image14.wmf" ContentType="image/x-wmf"/>
  <Override PartName="/ppt/media/image7.png" ContentType="image/png"/>
  <Override PartName="/ppt/media/image1.jpeg" ContentType="image/jpeg"/>
  <Override PartName="/ppt/media/image1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1.xlsx" ContentType="application/vnd.openxmlformats-officedocument.spreadsheetml.sheet"/>
  <Override PartName="/ppt/embeddings/oleObject3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44032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5D54B6-389D-4C3F-ABFA-72DC006471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I 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whether they went to Jamie’s course - assume they know noth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arity with metamorphic minerals and rock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compu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64BE32-CFBE-4335-B49D-3E9F17A808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FFF416-2B5B-4D69-9391-462691C230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BA9C69-A1B9-48F1-98AC-F4FD7ACF45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83B058-4456-45D4-B9E0-883075D059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06CEBE-FC9A-4A11-B486-9147E12C13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6AF212-C41E-4DF6-A541-1B1507DC88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7C5455-0323-4778-ABAF-84D68D9F70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6C93AF-67C1-40F3-8E63-ED04FBF345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D314D7-EECC-42AB-8C05-006C8E4747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490557-B182-47E5-B089-41886CA234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59288D-A706-4F28-AD18-5B772EE0A9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D832E9-4D47-4AAC-B857-A8A57DE0E4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93F014-EFF2-4BDD-957D-AC2CA82070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7BAC8C-6DE5-4A45-BB4A-90B61900B3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1BB6CD-9BE7-42EE-9070-AAEB801548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62D6-FE64-40C9-AA3A-4D027CA2D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0673-A842-4874-806F-89696E5BB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87A4-D87C-4CE6-A914-911BC1903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2A6F-D762-4E63-B0B3-DDB2B37E3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81E3-2F29-4A4E-A5D7-93B643F6C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1ED1-F557-4E37-8E07-4EDBC3F92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2A0A-B961-424B-9EF0-D52384D25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9868-682F-408A-8B00-184980D93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0863-8D39-4464-A24A-1615A11BF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B6BB-CB0C-4C30-A9CA-24D9B3C5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3CEA-F586-43C2-A754-91CA69FA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C829-3401-42F6-AC70-75EEB298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1FE43-AEFD-4647-9616-48E8D15509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50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rust to Core workshop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n introduction to Perple_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333360" y="2082960"/>
            <a:ext cx="845352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99"/>
              </a:spcBef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2: The structure of a Perple_X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c2c.jpg"/>
          <p:cNvPicPr/>
          <p:nvPr/>
        </p:nvPicPr>
        <p:blipFill>
          <a:blip r:embed="rId1"/>
          <a:stretch/>
        </p:blipFill>
        <p:spPr>
          <a:xfrm>
            <a:off x="0" y="5886360"/>
            <a:ext cx="900000" cy="971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ETH.wmf"/>
          <p:cNvPicPr/>
          <p:nvPr/>
        </p:nvPicPr>
        <p:blipFill>
          <a:blip r:embed="rId2"/>
          <a:stretch/>
        </p:blipFill>
        <p:spPr>
          <a:xfrm>
            <a:off x="7021440" y="6031080"/>
            <a:ext cx="199404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Oval 16"/>
          <p:cNvSpPr/>
          <p:nvPr/>
        </p:nvSpPr>
        <p:spPr>
          <a:xfrm>
            <a:off x="6113520" y="5234040"/>
            <a:ext cx="1609560" cy="520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3"/>
          <p:cNvSpPr/>
          <p:nvPr/>
        </p:nvSpPr>
        <p:spPr>
          <a:xfrm>
            <a:off x="5562720" y="4935600"/>
            <a:ext cx="981000" cy="293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4086360" y="4172040"/>
            <a:ext cx="2832120" cy="757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r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xtra data extra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19"/>
          <p:cNvSpPr/>
          <p:nvPr/>
        </p:nvSpPr>
        <p:spPr>
          <a:xfrm>
            <a:off x="2870280" y="1697040"/>
            <a:ext cx="1752480" cy="246852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450720" y="366840"/>
            <a:ext cx="2832120" cy="757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roblem set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450720" y="4172040"/>
            <a:ext cx="2832120" cy="757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ss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ostscript generat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3"/>
          <p:cNvSpPr/>
          <p:nvPr/>
        </p:nvSpPr>
        <p:spPr>
          <a:xfrm>
            <a:off x="1062000" y="5234040"/>
            <a:ext cx="1609920" cy="520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ps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4"/>
          <p:cNvSpPr/>
          <p:nvPr/>
        </p:nvSpPr>
        <p:spPr>
          <a:xfrm>
            <a:off x="200160" y="5979960"/>
            <a:ext cx="4371840" cy="757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lustrator/Coreldraw/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aking it look good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7"/>
          <p:cNvSpPr/>
          <p:nvPr/>
        </p:nvSpPr>
        <p:spPr>
          <a:xfrm>
            <a:off x="5816520" y="5979960"/>
            <a:ext cx="2955960" cy="757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lab (pscon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ouring rou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Group 22" descr=""/>
          <p:cNvPicPr/>
          <p:nvPr/>
        </p:nvPicPr>
        <p:blipFill>
          <a:blip r:embed="rId1"/>
          <a:stretch/>
        </p:blipFill>
        <p:spPr>
          <a:xfrm>
            <a:off x="1901880" y="3724200"/>
            <a:ext cx="2700360" cy="652680"/>
          </a:xfrm>
          <a:prstGeom prst="rect">
            <a:avLst/>
          </a:prstGeom>
          <a:ln w="0">
            <a:noFill/>
          </a:ln>
        </p:spPr>
      </p:pic>
      <p:sp>
        <p:nvSpPr>
          <p:cNvPr id="131" name="Line 24"/>
          <p:cNvSpPr/>
          <p:nvPr/>
        </p:nvSpPr>
        <p:spPr>
          <a:xfrm>
            <a:off x="6921360" y="5753160"/>
            <a:ext cx="1800" cy="226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5"/>
          <p:cNvSpPr/>
          <p:nvPr/>
        </p:nvSpPr>
        <p:spPr>
          <a:xfrm flipH="1">
            <a:off x="4571640" y="6362640"/>
            <a:ext cx="1244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450720" y="2173320"/>
            <a:ext cx="2832120" cy="949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t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ree energy minimis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2"/>
          <p:cNvSpPr/>
          <p:nvPr/>
        </p:nvSpPr>
        <p:spPr>
          <a:xfrm>
            <a:off x="6864480" y="3421080"/>
            <a:ext cx="2054160" cy="775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other ju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2"/>
          <p:cNvSpPr/>
          <p:nvPr/>
        </p:nvSpPr>
        <p:spPr>
          <a:xfrm>
            <a:off x="4572000" y="3421080"/>
            <a:ext cx="2054160" cy="388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ssary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5"/>
          <p:cNvSpPr/>
          <p:nvPr/>
        </p:nvSpPr>
        <p:spPr>
          <a:xfrm>
            <a:off x="6626160" y="1263600"/>
            <a:ext cx="1657440" cy="697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3"/>
          <p:cNvSpPr/>
          <p:nvPr/>
        </p:nvSpPr>
        <p:spPr>
          <a:xfrm>
            <a:off x="496800" y="1392120"/>
            <a:ext cx="2739960" cy="52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5"/>
          <p:cNvSpPr/>
          <p:nvPr/>
        </p:nvSpPr>
        <p:spPr>
          <a:xfrm>
            <a:off x="5562720" y="331920"/>
            <a:ext cx="3322440" cy="698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-member thermo data (e.g. H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1"/>
          <p:cNvSpPr/>
          <p:nvPr/>
        </p:nvSpPr>
        <p:spPr>
          <a:xfrm>
            <a:off x="2841480" y="3421080"/>
            <a:ext cx="1559160" cy="388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0"/>
          <p:cNvSpPr/>
          <p:nvPr/>
        </p:nvSpPr>
        <p:spPr>
          <a:xfrm>
            <a:off x="853920" y="3421080"/>
            <a:ext cx="1818000" cy="388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 flipH="1">
            <a:off x="6543360" y="2768760"/>
            <a:ext cx="847800" cy="1396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2"/>
          <p:cNvSpPr/>
          <p:nvPr/>
        </p:nvSpPr>
        <p:spPr>
          <a:xfrm>
            <a:off x="6924600" y="2197080"/>
            <a:ext cx="1352520" cy="77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9"/>
          <p:cNvSpPr/>
          <p:nvPr/>
        </p:nvSpPr>
        <p:spPr>
          <a:xfrm>
            <a:off x="6727680" y="3903840"/>
            <a:ext cx="2081520" cy="2690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360360" y="390600"/>
            <a:ext cx="65739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better solution requires understanding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39672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39672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idded minim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39672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39672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39672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39672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39672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39672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39672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39672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els for phases with solid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396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396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pseudocompound approx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396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to refine &amp; it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6"/>
          <p:cNvSpPr/>
          <p:nvPr/>
        </p:nvSpPr>
        <p:spPr>
          <a:xfrm>
            <a:off x="5765760" y="2265480"/>
            <a:ext cx="2743200" cy="481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7"/>
          <p:cNvSpPr/>
          <p:nvPr/>
        </p:nvSpPr>
        <p:spPr>
          <a:xfrm>
            <a:off x="7137360" y="194940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5"/>
          <p:cNvSpPr/>
          <p:nvPr/>
        </p:nvSpPr>
        <p:spPr>
          <a:xfrm>
            <a:off x="6934320" y="4624560"/>
            <a:ext cx="1657080" cy="697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2"/>
          <p:cNvSpPr/>
          <p:nvPr/>
        </p:nvSpPr>
        <p:spPr>
          <a:xfrm>
            <a:off x="7085160" y="5556240"/>
            <a:ext cx="1355400" cy="775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plex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0"/>
          <p:cNvSpPr/>
          <p:nvPr/>
        </p:nvSpPr>
        <p:spPr>
          <a:xfrm>
            <a:off x="6776280" y="3927600"/>
            <a:ext cx="197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l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5721480" y="3014640"/>
            <a:ext cx="2832120" cy="42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t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7"/>
          <p:cNvSpPr/>
          <p:nvPr/>
        </p:nvSpPr>
        <p:spPr>
          <a:xfrm>
            <a:off x="7137360" y="272268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2"/>
          <p:cNvSpPr/>
          <p:nvPr/>
        </p:nvSpPr>
        <p:spPr>
          <a:xfrm flipH="1">
            <a:off x="520560" y="3664080"/>
            <a:ext cx="7920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7"/>
          <p:cNvSpPr/>
          <p:nvPr/>
        </p:nvSpPr>
        <p:spPr>
          <a:xfrm>
            <a:off x="3683160" y="2265480"/>
            <a:ext cx="2038320" cy="75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2"/>
          <p:cNvSpPr/>
          <p:nvPr/>
        </p:nvSpPr>
        <p:spPr>
          <a:xfrm>
            <a:off x="1749600" y="2041560"/>
            <a:ext cx="2998440" cy="388440"/>
          </a:xfrm>
          <a:prstGeom prst="ellipse">
            <a:avLst/>
          </a:prstGeom>
          <a:gradFill rotWithShape="0">
            <a:gsLst>
              <a:gs pos="0">
                <a:srgbClr val="e8e8fa"/>
              </a:gs>
              <a:gs pos="100000">
                <a:srgbClr val="a8a8ea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plex_option.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5721480" y="1185840"/>
            <a:ext cx="2832120" cy="757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roblem set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7" descr="gridded minimization [final]"/>
          <p:cNvPicPr/>
          <p:nvPr/>
        </p:nvPicPr>
        <p:blipFill>
          <a:blip r:embed="rId1"/>
          <a:stretch/>
        </p:blipFill>
        <p:spPr>
          <a:xfrm>
            <a:off x="1936800" y="533520"/>
            <a:ext cx="5270400" cy="61545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2"/>
          <p:cNvSpPr/>
          <p:nvPr/>
        </p:nvSpPr>
        <p:spPr>
          <a:xfrm>
            <a:off x="-726120" y="0"/>
            <a:ext cx="45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02888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idded minim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7" descr="gridded minimization [final]"/>
          <p:cNvPicPr/>
          <p:nvPr/>
        </p:nvPicPr>
        <p:blipFill>
          <a:blip r:embed="rId1"/>
          <a:stretch/>
        </p:blipFill>
        <p:spPr>
          <a:xfrm>
            <a:off x="146160" y="533520"/>
            <a:ext cx="5270400" cy="61545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2"/>
          <p:cNvSpPr/>
          <p:nvPr/>
        </p:nvSpPr>
        <p:spPr>
          <a:xfrm>
            <a:off x="-726120" y="0"/>
            <a:ext cx="45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02888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idded minim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5570640" y="1376280"/>
            <a:ext cx="3516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erplex_options.d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f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_nod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_nod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fine the number of red d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rid_lev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fines the amount of it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 rot="16200000">
            <a:off x="2161080" y="1789920"/>
            <a:ext cx="1995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_nodes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7"/>
          <p:cNvSpPr/>
          <p:nvPr/>
        </p:nvSpPr>
        <p:spPr>
          <a:xfrm flipV="1">
            <a:off x="2882880" y="533160"/>
            <a:ext cx="0" cy="2933640"/>
          </a:xfrm>
          <a:prstGeom prst="line">
            <a:avLst/>
          </a:prstGeom>
          <a:ln w="66600">
            <a:solidFill>
              <a:srgbClr val="e50502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3141720" y="3022560"/>
            <a:ext cx="1995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_nodes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6"/>
          <p:cNvSpPr/>
          <p:nvPr/>
        </p:nvSpPr>
        <p:spPr>
          <a:xfrm>
            <a:off x="2882880" y="3467160"/>
            <a:ext cx="2533680" cy="0"/>
          </a:xfrm>
          <a:prstGeom prst="line">
            <a:avLst/>
          </a:prstGeom>
          <a:ln w="66600">
            <a:solidFill>
              <a:srgbClr val="e50502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2"/>
          <p:cNvSpPr/>
          <p:nvPr/>
        </p:nvSpPr>
        <p:spPr>
          <a:xfrm>
            <a:off x="1461960" y="4205160"/>
            <a:ext cx="798480" cy="914400"/>
          </a:xfrm>
          <a:prstGeom prst="rect">
            <a:avLst/>
          </a:prstGeom>
          <a:noFill/>
          <a:ln w="44280">
            <a:solidFill>
              <a:srgbClr val="e505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3"/>
          <p:cNvSpPr/>
          <p:nvPr/>
        </p:nvSpPr>
        <p:spPr>
          <a:xfrm>
            <a:off x="395280" y="5156280"/>
            <a:ext cx="23097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id_levels = 3 (red, green &amp; bla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-127080"/>
            <a:ext cx="7772400" cy="1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ution model int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361800" y="3995640"/>
            <a:ext cx="842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355680" y="1192320"/>
            <a:ext cx="843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 models for complex ph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209520" y="2895480"/>
            <a:ext cx="87249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ases of variable composition,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lution phas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are invariably described as a mixture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 or hypothetical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dmembe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for which data is tabulated. The problem is then to formulate 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lution mode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at describes the Gibbs energy of such a solution phase in terms of these endmembers. Such models consist of three component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mech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conf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exc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mech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the energy arising from mechanically mixing of the endmembers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conf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the energy expected to arise from theoretical entropic considerations,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excess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a component that accounts for the energetic effects caused by distortions of the atomic structure (e.g., strain) of the chemical mixing process or, in some cases, simply error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con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nolly,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127080"/>
            <a:ext cx="7772400" cy="1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ution model int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361800" y="3995640"/>
            <a:ext cx="842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361800" y="646200"/>
            <a:ext cx="8431200" cy="57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main types of solution mod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∆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confi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onsidered, ∆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exc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not conside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gul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∆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confi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&amp; ∆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exc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onside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ymmet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as above, minima not a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= 0.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levels of complex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ngle s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mixing (e.g. Mg - Fe in olivine; Mg, Fe, Ca, Mn mixing in garn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ultiple s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mixing (e.g. Mg, Fe, Ca, M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3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Al in garn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ultiple s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mixing requir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rge bal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e.g.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Si - CaAl in plagioclase feldsp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7761240" y="4767120"/>
          <a:ext cx="358920" cy="27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61240" y="4767120"/>
                    <a:ext cx="358920" cy="2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2075040" y="5846760"/>
          <a:ext cx="358560" cy="27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75040" y="5846760"/>
                    <a:ext cx="35856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-127080"/>
            <a:ext cx="7772400" cy="1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rop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361800" y="3995640"/>
            <a:ext cx="842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mixing curves1"/>
          <p:cNvPicPr/>
          <p:nvPr/>
        </p:nvPicPr>
        <p:blipFill>
          <a:blip r:embed="rId1"/>
          <a:stretch/>
        </p:blipFill>
        <p:spPr>
          <a:xfrm>
            <a:off x="2193840" y="1343160"/>
            <a:ext cx="4754520" cy="26715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mixing curves2"/>
          <p:cNvPicPr/>
          <p:nvPr/>
        </p:nvPicPr>
        <p:blipFill>
          <a:blip r:embed="rId2"/>
          <a:stretch/>
        </p:blipFill>
        <p:spPr>
          <a:xfrm>
            <a:off x="2198520" y="1346040"/>
            <a:ext cx="4749840" cy="266868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6"/>
          <p:cNvSpPr/>
          <p:nvPr/>
        </p:nvSpPr>
        <p:spPr>
          <a:xfrm>
            <a:off x="133200" y="139680"/>
            <a:ext cx="79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ing simple binary mixing e.g. Fe-Mg in ga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330120" y="4325760"/>
            <a:ext cx="845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simple mechanical mixture, energy varies linearly between the values of the two end-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330120" y="5227560"/>
            <a:ext cx="845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n ideal solid solution, configurational entropy must be consider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-127080"/>
            <a:ext cx="7772400" cy="1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ropy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361800" y="3995640"/>
            <a:ext cx="842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33200" y="139680"/>
            <a:ext cx="79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ing simple binary mixing e.g. Fe-Mg in ga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330120" y="4495680"/>
            <a:ext cx="8452080" cy="15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ational entropy is a function of disorder, so logically must be at a maximum when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.5. It follows tha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onfi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ust always be posi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eneral formula 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onfi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a phase with a single crystallographic si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486080" y="762120"/>
          <a:ext cx="6172200" cy="355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6080" y="762120"/>
                    <a:ext cx="6172200" cy="35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1228680" y="5791320"/>
          <a:ext cx="3495600" cy="93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28680" y="5791320"/>
                    <a:ext cx="349560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Text Box 8"/>
          <p:cNvSpPr/>
          <p:nvPr/>
        </p:nvSpPr>
        <p:spPr>
          <a:xfrm>
            <a:off x="5432400" y="5938920"/>
            <a:ext cx="31147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R is the gas constant an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site multipli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-127080"/>
            <a:ext cx="7772400" cy="1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ropy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361800" y="3995640"/>
            <a:ext cx="842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133200" y="139680"/>
            <a:ext cx="79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ing simple binary mixing e.g. Fe-Mg in ga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330120" y="4525920"/>
            <a:ext cx="845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our binary ca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625760" y="5638680"/>
          <a:ext cx="589572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5760" y="5638680"/>
                    <a:ext cx="589572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Text Box 7"/>
          <p:cNvSpPr/>
          <p:nvPr/>
        </p:nvSpPr>
        <p:spPr>
          <a:xfrm>
            <a:off x="361800" y="6332400"/>
            <a:ext cx="8452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R is the gas constant and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site multipli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2117880" y="4997520"/>
          <a:ext cx="4908240" cy="53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17880" y="4997520"/>
                    <a:ext cx="490824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1486080" y="762120"/>
          <a:ext cx="6172200" cy="35575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86080" y="762120"/>
                    <a:ext cx="6172200" cy="35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1486080" y="762120"/>
          <a:ext cx="6172200" cy="355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6080" y="762120"/>
                    <a:ext cx="6172200" cy="35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-127080"/>
            <a:ext cx="7772400" cy="1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ropy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361800" y="3995640"/>
            <a:ext cx="842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133200" y="139680"/>
            <a:ext cx="79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ing simple binary mixing e.g. Fe-Mg in ga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330120" y="4610160"/>
            <a:ext cx="845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opy from multiple site mixing simply requires summing terms, e.g., for a phase with two distinct crystallographic si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506520" y="6121440"/>
          <a:ext cx="8134200" cy="5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6520" y="6121440"/>
                    <a:ext cx="81342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4572000" y="5494320"/>
          <a:ext cx="1866960" cy="479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5494320"/>
                    <a:ext cx="186696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Text Box 9"/>
          <p:cNvSpPr/>
          <p:nvPr/>
        </p:nvSpPr>
        <p:spPr>
          <a:xfrm>
            <a:off x="1956600" y="548316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formula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0"/>
          <p:cNvSpPr/>
          <p:nvPr/>
        </p:nvSpPr>
        <p:spPr>
          <a:xfrm flipV="1">
            <a:off x="4572000" y="1503360"/>
            <a:ext cx="0" cy="520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355680" y="217440"/>
            <a:ext cx="8431200" cy="69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ple_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written and maintained by Jamie Connolly (ETH Züri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written in FORTRAN, with the source code avail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ok quite a long time to writ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cepts thermodynamic data from any source, provided it is formatted correctly (in a simple 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nnolly, J.A.D., Kerrick, D.M., 1987. An algorithm and computer program for calculating composition phase diagrams. 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mputers and Geosciences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1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, 1-5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nnolly, J.A.D., 1990. Multivariable phase diagrams: an algorithm based on generalized thermodynamics. 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m. J. Sci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. 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90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, 666-71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Kerrick, D.M., Connolly, J.A.D., 2001. Metamorphic devolatilization of subducted marine sediments and the transport of volatiles into the Earth's mantle. 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ature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411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, 293-29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nnolly, J.A.D., Petrini, K., 2002. An automated strategy for calculation of phase diagram sections and retrieval of rock properties as a function of physical conditions. 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J. Metamorph. Geol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. 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0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, 697-70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nnolly, J.A.D., 2005. Computation of phase equilibria by linear programming: A tool for geodynamic modeling and its application to subduction zone decarbonation. 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arth Planet. Sci. Lett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. 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36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, 524-54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addick, M.J., Thompson, A.B., 2008. Quantifying the tectono-metamorphic evolution of pelitic rocks from a wide range of tectonic settings: Mineral compositions in equilibrium. 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ntrib. Mineral. Petrol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. 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56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, 177-19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3"/>
          <p:cNvSpPr/>
          <p:nvPr/>
        </p:nvSpPr>
        <p:spPr>
          <a:xfrm>
            <a:off x="781200" y="2955960"/>
            <a:ext cx="8005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-127080"/>
            <a:ext cx="7772400" cy="1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ution model int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361800" y="3995640"/>
            <a:ext cx="842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133200" y="139680"/>
            <a:ext cx="79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ing simple binary mixing e.g. Fe-Mg in ga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330120" y="4848120"/>
            <a:ext cx="845208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ideal case we assume that enthalpy = 0, s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 = -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in an ideal solution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t a minimum a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0.5 and a stable solid solution is predicted (e.g. forsterite – fayalite)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 the minima is strongly controlled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486080" y="754200"/>
          <a:ext cx="6172200" cy="355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6080" y="754200"/>
                    <a:ext cx="6172200" cy="35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27080"/>
            <a:ext cx="7772400" cy="1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ution model int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361800" y="3995640"/>
            <a:ext cx="842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133200" y="139680"/>
            <a:ext cx="79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ing simple binary mixing e.g. Fe-Mg in ga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330120" y="4659480"/>
            <a:ext cx="8452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non-ideal case we add an excess energy term. A simple way of doing this is with a regular solution (e.g. Powell &amp; Holland, 1993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571680" y="5614920"/>
          <a:ext cx="3200400" cy="9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5614920"/>
                    <a:ext cx="320040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Text Box 8"/>
          <p:cNvSpPr/>
          <p:nvPr/>
        </p:nvSpPr>
        <p:spPr>
          <a:xfrm>
            <a:off x="4133880" y="5614920"/>
            <a:ext cx="5010120" cy="9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number of solution endme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effectively sums binary interaction energies across the entire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486080" y="754200"/>
          <a:ext cx="6172200" cy="3557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86080" y="754200"/>
                    <a:ext cx="6172200" cy="35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-127080"/>
            <a:ext cx="7772400" cy="1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ution model int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361800" y="3995640"/>
            <a:ext cx="842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133200" y="139680"/>
            <a:ext cx="79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ing simple binary mixing e.g. Fe-Mg in ga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330120" y="5011560"/>
            <a:ext cx="845208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h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gules parameter) is strongly positive, the resultan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urve can develop two minima - a solvus is predic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the entropy term dominates at hig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olvii are predicted at low temperatu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816120" y="711360"/>
          <a:ext cx="7495920" cy="374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6120" y="711360"/>
                    <a:ext cx="7495920" cy="37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Line 8"/>
          <p:cNvSpPr/>
          <p:nvPr/>
        </p:nvSpPr>
        <p:spPr>
          <a:xfrm>
            <a:off x="1308240" y="2705040"/>
            <a:ext cx="4457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1042560" y="28098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5506200" y="28098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12"/>
          <p:cNvSpPr/>
          <p:nvPr/>
        </p:nvSpPr>
        <p:spPr>
          <a:xfrm>
            <a:off x="1270080" y="2666880"/>
            <a:ext cx="75960" cy="76320"/>
          </a:xfrm>
          <a:prstGeom prst="ellipse">
            <a:avLst/>
          </a:prstGeom>
          <a:solidFill>
            <a:srgbClr val="e505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13"/>
          <p:cNvSpPr/>
          <p:nvPr/>
        </p:nvSpPr>
        <p:spPr>
          <a:xfrm>
            <a:off x="5765760" y="2666880"/>
            <a:ext cx="76320" cy="76320"/>
          </a:xfrm>
          <a:prstGeom prst="ellipse">
            <a:avLst/>
          </a:prstGeom>
          <a:solidFill>
            <a:srgbClr val="e505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14"/>
          <p:cNvSpPr/>
          <p:nvPr/>
        </p:nvSpPr>
        <p:spPr>
          <a:xfrm>
            <a:off x="1424160" y="2666880"/>
            <a:ext cx="75960" cy="76320"/>
          </a:xfrm>
          <a:prstGeom prst="ellipse">
            <a:avLst/>
          </a:prstGeom>
          <a:solidFill>
            <a:srgbClr val="e505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15"/>
          <p:cNvSpPr/>
          <p:nvPr/>
        </p:nvSpPr>
        <p:spPr>
          <a:xfrm>
            <a:off x="1579680" y="2666880"/>
            <a:ext cx="75960" cy="76320"/>
          </a:xfrm>
          <a:prstGeom prst="ellipse">
            <a:avLst/>
          </a:prstGeom>
          <a:solidFill>
            <a:srgbClr val="e505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16"/>
          <p:cNvSpPr/>
          <p:nvPr/>
        </p:nvSpPr>
        <p:spPr>
          <a:xfrm>
            <a:off x="1733400" y="2666880"/>
            <a:ext cx="76320" cy="76320"/>
          </a:xfrm>
          <a:prstGeom prst="ellipse">
            <a:avLst/>
          </a:prstGeom>
          <a:solidFill>
            <a:srgbClr val="e505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17"/>
          <p:cNvSpPr/>
          <p:nvPr/>
        </p:nvSpPr>
        <p:spPr>
          <a:xfrm>
            <a:off x="1889280" y="2666880"/>
            <a:ext cx="75960" cy="76320"/>
          </a:xfrm>
          <a:prstGeom prst="ellipse">
            <a:avLst/>
          </a:prstGeom>
          <a:solidFill>
            <a:srgbClr val="e505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18"/>
          <p:cNvSpPr/>
          <p:nvPr/>
        </p:nvSpPr>
        <p:spPr>
          <a:xfrm>
            <a:off x="2044800" y="2666880"/>
            <a:ext cx="75960" cy="76320"/>
          </a:xfrm>
          <a:prstGeom prst="ellipse">
            <a:avLst/>
          </a:prstGeom>
          <a:solidFill>
            <a:srgbClr val="e505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19"/>
          <p:cNvSpPr/>
          <p:nvPr/>
        </p:nvSpPr>
        <p:spPr>
          <a:xfrm>
            <a:off x="2198520" y="2666880"/>
            <a:ext cx="76320" cy="76320"/>
          </a:xfrm>
          <a:prstGeom prst="ellipse">
            <a:avLst/>
          </a:prstGeom>
          <a:solidFill>
            <a:srgbClr val="e505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20"/>
          <p:cNvSpPr/>
          <p:nvPr/>
        </p:nvSpPr>
        <p:spPr>
          <a:xfrm>
            <a:off x="2354400" y="2666880"/>
            <a:ext cx="75960" cy="76320"/>
          </a:xfrm>
          <a:prstGeom prst="ellipse">
            <a:avLst/>
          </a:prstGeom>
          <a:solidFill>
            <a:srgbClr val="e505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21"/>
          <p:cNvSpPr/>
          <p:nvPr/>
        </p:nvSpPr>
        <p:spPr>
          <a:xfrm>
            <a:off x="2509920" y="2666880"/>
            <a:ext cx="75960" cy="76320"/>
          </a:xfrm>
          <a:prstGeom prst="ellipse">
            <a:avLst/>
          </a:prstGeom>
          <a:solidFill>
            <a:srgbClr val="e505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22"/>
          <p:cNvSpPr/>
          <p:nvPr/>
        </p:nvSpPr>
        <p:spPr>
          <a:xfrm>
            <a:off x="2664000" y="2666880"/>
            <a:ext cx="75960" cy="76320"/>
          </a:xfrm>
          <a:prstGeom prst="ellipse">
            <a:avLst/>
          </a:prstGeom>
          <a:solidFill>
            <a:srgbClr val="e505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23"/>
          <p:cNvSpPr/>
          <p:nvPr/>
        </p:nvSpPr>
        <p:spPr>
          <a:xfrm>
            <a:off x="2819520" y="2666880"/>
            <a:ext cx="75960" cy="76320"/>
          </a:xfrm>
          <a:prstGeom prst="ellipse">
            <a:avLst/>
          </a:prstGeom>
          <a:solidFill>
            <a:srgbClr val="e505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24"/>
          <p:cNvSpPr/>
          <p:nvPr/>
        </p:nvSpPr>
        <p:spPr>
          <a:xfrm>
            <a:off x="2975040" y="2666880"/>
            <a:ext cx="75960" cy="76320"/>
          </a:xfrm>
          <a:prstGeom prst="ellipse">
            <a:avLst/>
          </a:prstGeom>
          <a:solidFill>
            <a:srgbClr val="e505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25"/>
          <p:cNvSpPr/>
          <p:nvPr/>
        </p:nvSpPr>
        <p:spPr>
          <a:xfrm>
            <a:off x="3129120" y="2666880"/>
            <a:ext cx="75960" cy="76320"/>
          </a:xfrm>
          <a:prstGeom prst="ellipse">
            <a:avLst/>
          </a:prstGeom>
          <a:solidFill>
            <a:srgbClr val="e505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26"/>
          <p:cNvSpPr/>
          <p:nvPr/>
        </p:nvSpPr>
        <p:spPr>
          <a:xfrm>
            <a:off x="3284640" y="2666880"/>
            <a:ext cx="75960" cy="76320"/>
          </a:xfrm>
          <a:prstGeom prst="ellipse">
            <a:avLst/>
          </a:prstGeom>
          <a:solidFill>
            <a:srgbClr val="e505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27"/>
          <p:cNvSpPr/>
          <p:nvPr/>
        </p:nvSpPr>
        <p:spPr>
          <a:xfrm>
            <a:off x="3440160" y="2666880"/>
            <a:ext cx="76320" cy="76320"/>
          </a:xfrm>
          <a:prstGeom prst="ellipse">
            <a:avLst/>
          </a:prstGeom>
          <a:solidFill>
            <a:srgbClr val="e505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28"/>
          <p:cNvSpPr/>
          <p:nvPr/>
        </p:nvSpPr>
        <p:spPr>
          <a:xfrm>
            <a:off x="3594240" y="2666880"/>
            <a:ext cx="75960" cy="76320"/>
          </a:xfrm>
          <a:prstGeom prst="ellipse">
            <a:avLst/>
          </a:prstGeom>
          <a:solidFill>
            <a:srgbClr val="e505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29"/>
          <p:cNvSpPr/>
          <p:nvPr/>
        </p:nvSpPr>
        <p:spPr>
          <a:xfrm>
            <a:off x="3749760" y="2666880"/>
            <a:ext cx="75960" cy="76320"/>
          </a:xfrm>
          <a:prstGeom prst="ellipse">
            <a:avLst/>
          </a:prstGeom>
          <a:solidFill>
            <a:srgbClr val="e505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30"/>
          <p:cNvSpPr/>
          <p:nvPr/>
        </p:nvSpPr>
        <p:spPr>
          <a:xfrm>
            <a:off x="3905280" y="2666880"/>
            <a:ext cx="76320" cy="76320"/>
          </a:xfrm>
          <a:prstGeom prst="ellipse">
            <a:avLst/>
          </a:prstGeom>
          <a:solidFill>
            <a:srgbClr val="e505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31"/>
          <p:cNvSpPr/>
          <p:nvPr/>
        </p:nvSpPr>
        <p:spPr>
          <a:xfrm>
            <a:off x="4059360" y="2666880"/>
            <a:ext cx="75960" cy="76320"/>
          </a:xfrm>
          <a:prstGeom prst="ellipse">
            <a:avLst/>
          </a:prstGeom>
          <a:solidFill>
            <a:srgbClr val="e505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32"/>
          <p:cNvSpPr/>
          <p:nvPr/>
        </p:nvSpPr>
        <p:spPr>
          <a:xfrm>
            <a:off x="4214880" y="2666880"/>
            <a:ext cx="75960" cy="76320"/>
          </a:xfrm>
          <a:prstGeom prst="ellipse">
            <a:avLst/>
          </a:prstGeom>
          <a:solidFill>
            <a:srgbClr val="e505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33"/>
          <p:cNvSpPr/>
          <p:nvPr/>
        </p:nvSpPr>
        <p:spPr>
          <a:xfrm>
            <a:off x="4370400" y="2666880"/>
            <a:ext cx="76320" cy="76320"/>
          </a:xfrm>
          <a:prstGeom prst="ellipse">
            <a:avLst/>
          </a:prstGeom>
          <a:solidFill>
            <a:srgbClr val="e505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4"/>
          <p:cNvSpPr/>
          <p:nvPr/>
        </p:nvSpPr>
        <p:spPr>
          <a:xfrm>
            <a:off x="4524480" y="2666880"/>
            <a:ext cx="75960" cy="76320"/>
          </a:xfrm>
          <a:prstGeom prst="ellipse">
            <a:avLst/>
          </a:prstGeom>
          <a:solidFill>
            <a:srgbClr val="e505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35"/>
          <p:cNvSpPr/>
          <p:nvPr/>
        </p:nvSpPr>
        <p:spPr>
          <a:xfrm>
            <a:off x="4680000" y="2666880"/>
            <a:ext cx="76320" cy="76320"/>
          </a:xfrm>
          <a:prstGeom prst="ellipse">
            <a:avLst/>
          </a:prstGeom>
          <a:solidFill>
            <a:srgbClr val="e505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36"/>
          <p:cNvSpPr/>
          <p:nvPr/>
        </p:nvSpPr>
        <p:spPr>
          <a:xfrm>
            <a:off x="4835520" y="2666880"/>
            <a:ext cx="76320" cy="76320"/>
          </a:xfrm>
          <a:prstGeom prst="ellipse">
            <a:avLst/>
          </a:prstGeom>
          <a:solidFill>
            <a:srgbClr val="e505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37"/>
          <p:cNvSpPr/>
          <p:nvPr/>
        </p:nvSpPr>
        <p:spPr>
          <a:xfrm>
            <a:off x="4989600" y="2666880"/>
            <a:ext cx="75960" cy="76320"/>
          </a:xfrm>
          <a:prstGeom prst="ellipse">
            <a:avLst/>
          </a:prstGeom>
          <a:solidFill>
            <a:srgbClr val="e505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38"/>
          <p:cNvSpPr/>
          <p:nvPr/>
        </p:nvSpPr>
        <p:spPr>
          <a:xfrm>
            <a:off x="5145120" y="2666880"/>
            <a:ext cx="76320" cy="76320"/>
          </a:xfrm>
          <a:prstGeom prst="ellipse">
            <a:avLst/>
          </a:prstGeom>
          <a:solidFill>
            <a:srgbClr val="e505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39"/>
          <p:cNvSpPr/>
          <p:nvPr/>
        </p:nvSpPr>
        <p:spPr>
          <a:xfrm>
            <a:off x="5300640" y="2666880"/>
            <a:ext cx="76320" cy="76320"/>
          </a:xfrm>
          <a:prstGeom prst="ellipse">
            <a:avLst/>
          </a:prstGeom>
          <a:solidFill>
            <a:srgbClr val="e505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40"/>
          <p:cNvSpPr/>
          <p:nvPr/>
        </p:nvSpPr>
        <p:spPr>
          <a:xfrm>
            <a:off x="5454720" y="2666880"/>
            <a:ext cx="75960" cy="76320"/>
          </a:xfrm>
          <a:prstGeom prst="ellipse">
            <a:avLst/>
          </a:prstGeom>
          <a:solidFill>
            <a:srgbClr val="e505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41"/>
          <p:cNvSpPr/>
          <p:nvPr/>
        </p:nvSpPr>
        <p:spPr>
          <a:xfrm>
            <a:off x="5610240" y="2666880"/>
            <a:ext cx="76320" cy="76320"/>
          </a:xfrm>
          <a:prstGeom prst="ellipse">
            <a:avLst/>
          </a:prstGeom>
          <a:solidFill>
            <a:srgbClr val="e505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"/>
          <p:cNvSpPr/>
          <p:nvPr/>
        </p:nvSpPr>
        <p:spPr>
          <a:xfrm>
            <a:off x="386280" y="390600"/>
            <a:ext cx="6237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id solution models in Perple_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pseudocompound approx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to refine and it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44"/>
          <p:cNvSpPr/>
          <p:nvPr/>
        </p:nvSpPr>
        <p:spPr>
          <a:xfrm flipH="1">
            <a:off x="914040" y="3703680"/>
            <a:ext cx="7070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-2604960" y="630360"/>
            <a:ext cx="7831080" cy="60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. 1.   0.1 1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. 1.   0.1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. 1.   0.1 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278280" y="76320"/>
            <a:ext cx="48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ract from solution model fi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244440" y="2712960"/>
            <a:ext cx="1633680" cy="716040"/>
          </a:xfrm>
          <a:prstGeom prst="rect">
            <a:avLst/>
          </a:prstGeom>
          <a:noFill/>
          <a:ln w="25560">
            <a:solidFill>
              <a:srgbClr val="e505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11"/>
          <p:cNvGrpSpPr/>
          <p:nvPr/>
        </p:nvGrpSpPr>
        <p:grpSpPr>
          <a:xfrm>
            <a:off x="2540160" y="1216080"/>
            <a:ext cx="5352840" cy="4348080"/>
            <a:chOff x="2540160" y="1216080"/>
            <a:chExt cx="5352840" cy="4348080"/>
          </a:xfrm>
        </p:grpSpPr>
        <p:sp>
          <p:nvSpPr>
            <p:cNvPr id="277" name="Text Box 5"/>
            <p:cNvSpPr/>
            <p:nvPr/>
          </p:nvSpPr>
          <p:spPr>
            <a:xfrm>
              <a:off x="2540160" y="1216080"/>
              <a:ext cx="5352840" cy="18828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uto_refine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un the entire calculation once at this resolution, find approximately where the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actual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compositional limits of each phase are, set these as the boundaries, increase the resolution over this smaller range, run aga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8"/>
            <p:cNvSpPr/>
            <p:nvPr/>
          </p:nvSpPr>
          <p:spPr>
            <a:xfrm>
              <a:off x="2540160" y="3681360"/>
              <a:ext cx="5352840" cy="18828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ocal Iteration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nd out which pseudocompounds look most stable at each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PT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point, make more pseudocompounds close to these, throw away most of the others. Repeat this process several times for each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PT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in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10"/>
          <p:cNvGrpSpPr/>
          <p:nvPr/>
        </p:nvGrpSpPr>
        <p:grpSpPr>
          <a:xfrm>
            <a:off x="1995480" y="2367000"/>
            <a:ext cx="326880" cy="1488960"/>
            <a:chOff x="1995480" y="2367000"/>
            <a:chExt cx="326880" cy="1488960"/>
          </a:xfrm>
        </p:grpSpPr>
        <p:sp>
          <p:nvSpPr>
            <p:cNvPr id="280" name="Line 6"/>
            <p:cNvSpPr/>
            <p:nvPr/>
          </p:nvSpPr>
          <p:spPr>
            <a:xfrm flipV="1">
              <a:off x="1995480" y="2367000"/>
              <a:ext cx="326880" cy="26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9"/>
            <p:cNvSpPr/>
            <p:nvPr/>
          </p:nvSpPr>
          <p:spPr>
            <a:xfrm>
              <a:off x="1995480" y="3429000"/>
              <a:ext cx="326880" cy="42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-2604960" y="630360"/>
            <a:ext cx="7831080" cy="60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. 1.   0.1 1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. 1.   0.1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. 1.   0.1 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278280" y="76320"/>
            <a:ext cx="48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ract from solution model fi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244440" y="2712960"/>
            <a:ext cx="1633680" cy="716040"/>
          </a:xfrm>
          <a:prstGeom prst="rect">
            <a:avLst/>
          </a:prstGeom>
          <a:noFill/>
          <a:ln w="25560">
            <a:solidFill>
              <a:srgbClr val="e505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11"/>
          <p:cNvGrpSpPr/>
          <p:nvPr/>
        </p:nvGrpSpPr>
        <p:grpSpPr>
          <a:xfrm>
            <a:off x="2540160" y="1216080"/>
            <a:ext cx="5352840" cy="4348080"/>
            <a:chOff x="2540160" y="1216080"/>
            <a:chExt cx="5352840" cy="4348080"/>
          </a:xfrm>
        </p:grpSpPr>
        <p:sp>
          <p:nvSpPr>
            <p:cNvPr id="286" name="Text Box 5"/>
            <p:cNvSpPr/>
            <p:nvPr/>
          </p:nvSpPr>
          <p:spPr>
            <a:xfrm>
              <a:off x="2540160" y="1216080"/>
              <a:ext cx="5352840" cy="16084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uto_refine: In the “perplex_parameters.dat”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auto_refine_factor_I’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(and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&amp;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III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 controls how much resolution is increased by after the first run (notice that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/y_level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and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grid_level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have two sets of properties [pre- and post-refinement]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8"/>
            <p:cNvSpPr/>
            <p:nvPr/>
          </p:nvSpPr>
          <p:spPr>
            <a:xfrm>
              <a:off x="2540160" y="3681360"/>
              <a:ext cx="5352840" cy="18828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ocal Iteration : “perplex_parameters.dat”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Iteration’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has 3 values which control the number of times the compositions of stable phases will be refined, the increase in resolution between iterations and the number of ‘unstable’ pseudocompounds also refined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10"/>
          <p:cNvGrpSpPr/>
          <p:nvPr/>
        </p:nvGrpSpPr>
        <p:grpSpPr>
          <a:xfrm>
            <a:off x="1995480" y="2367000"/>
            <a:ext cx="326880" cy="1488960"/>
            <a:chOff x="1995480" y="2367000"/>
            <a:chExt cx="326880" cy="1488960"/>
          </a:xfrm>
        </p:grpSpPr>
        <p:sp>
          <p:nvSpPr>
            <p:cNvPr id="289" name="Line 6"/>
            <p:cNvSpPr/>
            <p:nvPr/>
          </p:nvSpPr>
          <p:spPr>
            <a:xfrm flipV="1">
              <a:off x="1995480" y="2367000"/>
              <a:ext cx="326880" cy="26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9"/>
            <p:cNvSpPr/>
            <p:nvPr/>
          </p:nvSpPr>
          <p:spPr>
            <a:xfrm>
              <a:off x="1995480" y="3429000"/>
              <a:ext cx="326880" cy="42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Text Box 12"/>
          <p:cNvSpPr/>
          <p:nvPr/>
        </p:nvSpPr>
        <p:spPr>
          <a:xfrm>
            <a:off x="590400" y="5638680"/>
            <a:ext cx="706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streamlining and iteration options are controlled from the ‘perplex_parameter’ file. They (hopefully) don’t need changing too regularly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-127080"/>
            <a:ext cx="7772400" cy="1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ution model int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361800" y="3995640"/>
            <a:ext cx="842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133200" y="139680"/>
            <a:ext cx="7918560" cy="57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rther re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rivation of configurational entropy ter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mie Connolly’s course notes (lecture 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ar, 1993, Metamorphic phase equilibria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-T-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ths, first few pages of chapter 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ular solution mode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ll &amp; Holland, 1993, American Mineralogist, v78, 1174-118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n Laar solution mode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land &amp; Powell, 2003, Contributions to Mineralogy &amp; Petrology, v145, 492-50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0" y="3213000"/>
            <a:ext cx="8051760" cy="939960"/>
          </a:xfrm>
          <a:prstGeom prst="rect">
            <a:avLst/>
          </a:prstGeom>
          <a:noFill/>
          <a:ln w="22320">
            <a:solidFill>
              <a:srgbClr val="e505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355680" y="217440"/>
            <a:ext cx="8431200" cy="61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ple_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nimises free energy of multiple phase configurations to identify the ‘most stable’ s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ork with complex phases by breaking solution-space into a number of discrete ‘phases’ (pseudo-compound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flexible, generat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1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proj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1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seudo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1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atability diagrams (e.g. AFM triang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1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xed-variable dia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flexible, allow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1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lex saturation heirarch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1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nsformation of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1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of numerous EOS for fluids involving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,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Na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1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asy extraction of sub-systems from large solution model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355680" y="217440"/>
            <a:ext cx="8431200" cy="61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ple_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mits easy extraction of secondary da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1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es of ph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1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ositions of ph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1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hase or bulk-rock den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1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ther phase or bulk-rock properties (heat capacity, enthalpy, bulk modul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1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imated secondary properties (P- and S-wave velocit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a modular collection of many (&gt; 10) sub-programs which can generate a bewildering array of file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quires minimal user in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s the ability to confuse at fir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is actually incredibly simple to u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u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more efficient than it used to b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can still take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ime to calculate a diag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8"/>
          <p:cNvSpPr/>
          <p:nvPr/>
        </p:nvSpPr>
        <p:spPr>
          <a:xfrm>
            <a:off x="450720" y="366840"/>
            <a:ext cx="2832120" cy="757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roblem set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6"/>
          <p:cNvGrpSpPr/>
          <p:nvPr/>
        </p:nvGrpSpPr>
        <p:grpSpPr>
          <a:xfrm>
            <a:off x="450720" y="2173320"/>
            <a:ext cx="6467760" cy="2948760"/>
            <a:chOff x="450720" y="2173320"/>
            <a:chExt cx="6467760" cy="2948760"/>
          </a:xfrm>
        </p:grpSpPr>
        <p:sp>
          <p:nvSpPr>
            <p:cNvPr id="58" name="Text Box 9"/>
            <p:cNvSpPr/>
            <p:nvPr/>
          </p:nvSpPr>
          <p:spPr>
            <a:xfrm>
              <a:off x="450720" y="4172040"/>
              <a:ext cx="2832120" cy="739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0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ssec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(Postscript plot generator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5"/>
            <p:cNvSpPr/>
            <p:nvPr/>
          </p:nvSpPr>
          <p:spPr>
            <a:xfrm>
              <a:off x="4086360" y="4172400"/>
              <a:ext cx="2832120" cy="9496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0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eram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Secondary data extraction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10"/>
            <p:cNvSpPr/>
            <p:nvPr/>
          </p:nvSpPr>
          <p:spPr>
            <a:xfrm>
              <a:off x="450720" y="2173320"/>
              <a:ext cx="2832120" cy="9496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t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Free energy minimisation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Oval 3"/>
          <p:cNvSpPr/>
          <p:nvPr/>
        </p:nvSpPr>
        <p:spPr>
          <a:xfrm>
            <a:off x="496800" y="1392120"/>
            <a:ext cx="2739960" cy="52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450720" y="366840"/>
            <a:ext cx="2832120" cy="757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roblem set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Group 6" descr=""/>
          <p:cNvPicPr/>
          <p:nvPr/>
        </p:nvPicPr>
        <p:blipFill>
          <a:blip r:embed="rId1"/>
          <a:stretch/>
        </p:blipFill>
        <p:spPr>
          <a:xfrm>
            <a:off x="3133800" y="573120"/>
            <a:ext cx="3876480" cy="1225440"/>
          </a:xfrm>
          <a:prstGeom prst="rect">
            <a:avLst/>
          </a:prstGeom>
          <a:ln w="0">
            <a:noFill/>
          </a:ln>
        </p:spPr>
      </p:pic>
      <p:sp>
        <p:nvSpPr>
          <p:cNvPr id="64" name="Line 9"/>
          <p:cNvSpPr/>
          <p:nvPr/>
        </p:nvSpPr>
        <p:spPr>
          <a:xfrm flipH="1">
            <a:off x="1871640" y="1130400"/>
            <a:ext cx="7920" cy="25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15"/>
          <p:cNvGrpSpPr/>
          <p:nvPr/>
        </p:nvGrpSpPr>
        <p:grpSpPr>
          <a:xfrm>
            <a:off x="3238200" y="1638360"/>
            <a:ext cx="2810160" cy="642600"/>
            <a:chOff x="3238200" y="1638360"/>
            <a:chExt cx="2810160" cy="642600"/>
          </a:xfrm>
        </p:grpSpPr>
        <p:sp>
          <p:nvSpPr>
            <p:cNvPr id="66" name="Straight Connector 13"/>
            <p:cNvSpPr/>
            <p:nvPr/>
          </p:nvSpPr>
          <p:spPr>
            <a:xfrm flipH="1" flipV="1">
              <a:off x="3238200" y="1681200"/>
              <a:ext cx="577800" cy="141120"/>
            </a:xfrm>
            <a:prstGeom prst="line">
              <a:avLst/>
            </a:prstGeom>
            <a:ln w="9360">
              <a:solidFill>
                <a:srgbClr val="2f2f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10"/>
            <p:cNvSpPr/>
            <p:nvPr/>
          </p:nvSpPr>
          <p:spPr>
            <a:xfrm>
              <a:off x="3652920" y="1638360"/>
              <a:ext cx="2395440" cy="642600"/>
            </a:xfrm>
            <a:prstGeom prst="rect">
              <a:avLst/>
            </a:prstGeom>
            <a:gradFill rotWithShape="0">
              <a:gsLst>
                <a:gs pos="0">
                  <a:srgbClr val="e8e8fa"/>
                </a:gs>
                <a:gs pos="100000">
                  <a:srgbClr val="a8a8ea"/>
                </a:gs>
              </a:gsLst>
              <a:lin ang="5400000"/>
            </a:gradFill>
            <a:ln w="9360">
              <a:solidFill>
                <a:srgbClr val="2f2f98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Can modify with a text edito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Oval 5"/>
          <p:cNvSpPr/>
          <p:nvPr/>
        </p:nvSpPr>
        <p:spPr>
          <a:xfrm>
            <a:off x="6626160" y="1263600"/>
            <a:ext cx="1657440" cy="697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5"/>
          <p:cNvSpPr/>
          <p:nvPr/>
        </p:nvSpPr>
        <p:spPr>
          <a:xfrm>
            <a:off x="5562720" y="331920"/>
            <a:ext cx="3322440" cy="698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-member thermo data (e.g. H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11"/>
          <p:cNvSpPr/>
          <p:nvPr/>
        </p:nvSpPr>
        <p:spPr>
          <a:xfrm>
            <a:off x="3711600" y="2173320"/>
            <a:ext cx="2832120" cy="949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e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ing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oint stability calculat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9"/>
          <p:cNvSpPr/>
          <p:nvPr/>
        </p:nvSpPr>
        <p:spPr>
          <a:xfrm>
            <a:off x="2908440" y="1608120"/>
            <a:ext cx="1663560" cy="56376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20"/>
          <p:cNvSpPr/>
          <p:nvPr/>
        </p:nvSpPr>
        <p:spPr>
          <a:xfrm flipH="1" flipV="1">
            <a:off x="6543360" y="2628720"/>
            <a:ext cx="1663560" cy="457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1"/>
          <p:cNvSpPr/>
          <p:nvPr/>
        </p:nvSpPr>
        <p:spPr>
          <a:xfrm flipH="1">
            <a:off x="6171840" y="1879560"/>
            <a:ext cx="863640" cy="292320"/>
          </a:xfrm>
          <a:prstGeom prst="line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2"/>
          <p:cNvSpPr/>
          <p:nvPr/>
        </p:nvSpPr>
        <p:spPr>
          <a:xfrm flipH="1">
            <a:off x="5320800" y="965160"/>
            <a:ext cx="1016280" cy="120816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450720" y="2173320"/>
            <a:ext cx="2832120" cy="949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t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ree energy minimis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450720" y="366840"/>
            <a:ext cx="2832120" cy="757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roblem set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4"/>
          <p:cNvSpPr/>
          <p:nvPr/>
        </p:nvSpPr>
        <p:spPr>
          <a:xfrm>
            <a:off x="1854360" y="1879560"/>
            <a:ext cx="0" cy="29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Group 18" descr=""/>
          <p:cNvPicPr/>
          <p:nvPr/>
        </p:nvPicPr>
        <p:blipFill>
          <a:blip r:embed="rId1"/>
          <a:stretch/>
        </p:blipFill>
        <p:spPr>
          <a:xfrm>
            <a:off x="2000160" y="828720"/>
            <a:ext cx="5254560" cy="1616040"/>
          </a:xfrm>
          <a:prstGeom prst="rect">
            <a:avLst/>
          </a:prstGeom>
          <a:ln w="0">
            <a:noFill/>
          </a:ln>
        </p:spPr>
      </p:pic>
      <p:sp>
        <p:nvSpPr>
          <p:cNvPr id="79" name="Oval 5"/>
          <p:cNvSpPr/>
          <p:nvPr/>
        </p:nvSpPr>
        <p:spPr>
          <a:xfrm>
            <a:off x="6626160" y="1263600"/>
            <a:ext cx="1657440" cy="697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3"/>
          <p:cNvSpPr/>
          <p:nvPr/>
        </p:nvSpPr>
        <p:spPr>
          <a:xfrm>
            <a:off x="496800" y="1392120"/>
            <a:ext cx="2739960" cy="52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5"/>
          <p:cNvSpPr/>
          <p:nvPr/>
        </p:nvSpPr>
        <p:spPr>
          <a:xfrm>
            <a:off x="5562720" y="331920"/>
            <a:ext cx="3322440" cy="698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-member thermo data (e.g. H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2"/>
          <p:cNvSpPr/>
          <p:nvPr/>
        </p:nvSpPr>
        <p:spPr>
          <a:xfrm>
            <a:off x="6924600" y="2197080"/>
            <a:ext cx="1352520" cy="77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23"/>
          <p:cNvGrpSpPr/>
          <p:nvPr/>
        </p:nvGrpSpPr>
        <p:grpSpPr>
          <a:xfrm>
            <a:off x="5562720" y="330120"/>
            <a:ext cx="3322440" cy="2641320"/>
            <a:chOff x="5562720" y="330120"/>
            <a:chExt cx="3322440" cy="2641320"/>
          </a:xfrm>
        </p:grpSpPr>
        <p:sp>
          <p:nvSpPr>
            <p:cNvPr id="84" name="Oval 5"/>
            <p:cNvSpPr/>
            <p:nvPr/>
          </p:nvSpPr>
          <p:spPr>
            <a:xfrm>
              <a:off x="6626160" y="1261800"/>
              <a:ext cx="1657080" cy="698040"/>
            </a:xfrm>
            <a:prstGeom prst="ellipse">
              <a:avLst/>
            </a:prstGeom>
            <a:gradFill rotWithShape="0">
              <a:gsLst>
                <a:gs pos="0">
                  <a:srgbClr val="e8e8fa"/>
                </a:gs>
                <a:gs pos="100000">
                  <a:srgbClr val="a8a8ea"/>
                </a:gs>
              </a:gsLst>
              <a:lin ang="5400000"/>
            </a:gradFill>
            <a:ln w="9360">
              <a:solidFill>
                <a:srgbClr val="2f2f98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odels: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solut0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5"/>
            <p:cNvSpPr/>
            <p:nvPr/>
          </p:nvSpPr>
          <p:spPr>
            <a:xfrm>
              <a:off x="5562720" y="330120"/>
              <a:ext cx="3322440" cy="698040"/>
            </a:xfrm>
            <a:prstGeom prst="ellipse">
              <a:avLst/>
            </a:prstGeom>
            <a:gradFill rotWithShape="0">
              <a:gsLst>
                <a:gs pos="0">
                  <a:srgbClr val="e8e8fa"/>
                </a:gs>
                <a:gs pos="100000">
                  <a:srgbClr val="a8a8ea"/>
                </a:gs>
              </a:gsLst>
              <a:lin ang="5400000"/>
            </a:gradFill>
            <a:ln w="9360">
              <a:solidFill>
                <a:srgbClr val="2f2f98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rmodynamic data: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p02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2"/>
            <p:cNvSpPr/>
            <p:nvPr/>
          </p:nvSpPr>
          <p:spPr>
            <a:xfrm>
              <a:off x="6924600" y="2195640"/>
              <a:ext cx="1352520" cy="775800"/>
            </a:xfrm>
            <a:prstGeom prst="ellipse">
              <a:avLst/>
            </a:prstGeom>
            <a:gradFill rotWithShape="0">
              <a:gsLst>
                <a:gs pos="0">
                  <a:srgbClr val="e8e8fa"/>
                </a:gs>
                <a:gs pos="100000">
                  <a:srgbClr val="a8a8ea"/>
                </a:gs>
              </a:gsLst>
              <a:lin ang="5400000"/>
            </a:gradFill>
            <a:ln w="9360">
              <a:solidFill>
                <a:srgbClr val="2f2f98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rplex_op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Oval 10"/>
          <p:cNvSpPr/>
          <p:nvPr/>
        </p:nvSpPr>
        <p:spPr>
          <a:xfrm>
            <a:off x="853920" y="3421080"/>
            <a:ext cx="1818000" cy="388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1"/>
          <p:cNvSpPr/>
          <p:nvPr/>
        </p:nvSpPr>
        <p:spPr>
          <a:xfrm>
            <a:off x="2841480" y="3421080"/>
            <a:ext cx="1559160" cy="388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2"/>
          <p:cNvSpPr/>
          <p:nvPr/>
        </p:nvSpPr>
        <p:spPr>
          <a:xfrm>
            <a:off x="4572000" y="3421080"/>
            <a:ext cx="2054160" cy="388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ssary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Group 24" descr=""/>
          <p:cNvPicPr/>
          <p:nvPr/>
        </p:nvPicPr>
        <p:blipFill>
          <a:blip r:embed="rId1"/>
          <a:stretch/>
        </p:blipFill>
        <p:spPr>
          <a:xfrm>
            <a:off x="1682640" y="3090960"/>
            <a:ext cx="3932280" cy="5428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0"/>
          <p:cNvSpPr/>
          <p:nvPr/>
        </p:nvSpPr>
        <p:spPr>
          <a:xfrm>
            <a:off x="450720" y="2173320"/>
            <a:ext cx="2832120" cy="949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t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ree energy minimis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Group 18" descr=""/>
          <p:cNvPicPr/>
          <p:nvPr/>
        </p:nvPicPr>
        <p:blipFill>
          <a:blip r:embed="rId2"/>
          <a:stretch/>
        </p:blipFill>
        <p:spPr>
          <a:xfrm>
            <a:off x="2000160" y="828720"/>
            <a:ext cx="5254560" cy="16160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2"/>
          <p:cNvSpPr/>
          <p:nvPr/>
        </p:nvSpPr>
        <p:spPr>
          <a:xfrm>
            <a:off x="450720" y="366840"/>
            <a:ext cx="2832120" cy="757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roblem set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5"/>
          <p:cNvSpPr/>
          <p:nvPr/>
        </p:nvSpPr>
        <p:spPr>
          <a:xfrm>
            <a:off x="1854360" y="1879560"/>
            <a:ext cx="0" cy="293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Group 29" descr=""/>
          <p:cNvPicPr/>
          <p:nvPr/>
        </p:nvPicPr>
        <p:blipFill>
          <a:blip r:embed="rId3"/>
          <a:stretch/>
        </p:blipFill>
        <p:spPr>
          <a:xfrm>
            <a:off x="3236760" y="2712960"/>
            <a:ext cx="5778720" cy="1584360"/>
          </a:xfrm>
          <a:prstGeom prst="rect">
            <a:avLst/>
          </a:prstGeom>
          <a:ln w="0">
            <a:noFill/>
          </a:ln>
        </p:spPr>
      </p:pic>
      <p:sp>
        <p:nvSpPr>
          <p:cNvPr id="96" name="Oval 5"/>
          <p:cNvSpPr/>
          <p:nvPr/>
        </p:nvSpPr>
        <p:spPr>
          <a:xfrm>
            <a:off x="6626160" y="1263600"/>
            <a:ext cx="1657440" cy="697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3"/>
          <p:cNvSpPr/>
          <p:nvPr/>
        </p:nvSpPr>
        <p:spPr>
          <a:xfrm>
            <a:off x="496800" y="1392120"/>
            <a:ext cx="2739960" cy="52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5"/>
          <p:cNvSpPr/>
          <p:nvPr/>
        </p:nvSpPr>
        <p:spPr>
          <a:xfrm>
            <a:off x="5562720" y="331920"/>
            <a:ext cx="3322440" cy="698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-member thermo data (e.g. H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2"/>
          <p:cNvSpPr/>
          <p:nvPr/>
        </p:nvSpPr>
        <p:spPr>
          <a:xfrm>
            <a:off x="6924600" y="2197080"/>
            <a:ext cx="1352520" cy="77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34"/>
          <p:cNvGrpSpPr/>
          <p:nvPr/>
        </p:nvGrpSpPr>
        <p:grpSpPr>
          <a:xfrm>
            <a:off x="5562720" y="330120"/>
            <a:ext cx="3322440" cy="2641320"/>
            <a:chOff x="5562720" y="330120"/>
            <a:chExt cx="3322440" cy="2641320"/>
          </a:xfrm>
        </p:grpSpPr>
        <p:sp>
          <p:nvSpPr>
            <p:cNvPr id="101" name="Oval 5"/>
            <p:cNvSpPr/>
            <p:nvPr/>
          </p:nvSpPr>
          <p:spPr>
            <a:xfrm>
              <a:off x="6626160" y="1261800"/>
              <a:ext cx="1657080" cy="698040"/>
            </a:xfrm>
            <a:prstGeom prst="ellipse">
              <a:avLst/>
            </a:prstGeom>
            <a:gradFill rotWithShape="0">
              <a:gsLst>
                <a:gs pos="0">
                  <a:srgbClr val="e8e8fa"/>
                </a:gs>
                <a:gs pos="100000">
                  <a:srgbClr val="a8a8ea"/>
                </a:gs>
              </a:gsLst>
              <a:lin ang="5400000"/>
            </a:gradFill>
            <a:ln w="9360">
              <a:solidFill>
                <a:srgbClr val="2f2f98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odels: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solut0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5"/>
            <p:cNvSpPr/>
            <p:nvPr/>
          </p:nvSpPr>
          <p:spPr>
            <a:xfrm>
              <a:off x="5562720" y="330120"/>
              <a:ext cx="3322440" cy="698040"/>
            </a:xfrm>
            <a:prstGeom prst="ellipse">
              <a:avLst/>
            </a:prstGeom>
            <a:gradFill rotWithShape="0">
              <a:gsLst>
                <a:gs pos="0">
                  <a:srgbClr val="e8e8fa"/>
                </a:gs>
                <a:gs pos="100000">
                  <a:srgbClr val="a8a8ea"/>
                </a:gs>
              </a:gsLst>
              <a:lin ang="5400000"/>
            </a:gradFill>
            <a:ln w="9360">
              <a:solidFill>
                <a:srgbClr val="2f2f98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rmodynamic data: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p02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2"/>
            <p:cNvSpPr/>
            <p:nvPr/>
          </p:nvSpPr>
          <p:spPr>
            <a:xfrm>
              <a:off x="6924600" y="2195640"/>
              <a:ext cx="1352520" cy="775800"/>
            </a:xfrm>
            <a:prstGeom prst="ellipse">
              <a:avLst/>
            </a:prstGeom>
            <a:gradFill rotWithShape="0">
              <a:gsLst>
                <a:gs pos="0">
                  <a:srgbClr val="e8e8fa"/>
                </a:gs>
                <a:gs pos="100000">
                  <a:srgbClr val="a8a8ea"/>
                </a:gs>
              </a:gsLst>
              <a:lin ang="5400000"/>
            </a:gradFill>
            <a:ln w="9360">
              <a:solidFill>
                <a:srgbClr val="2f2f98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rplex_op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Oval 12"/>
          <p:cNvSpPr/>
          <p:nvPr/>
        </p:nvSpPr>
        <p:spPr>
          <a:xfrm>
            <a:off x="6864480" y="3421080"/>
            <a:ext cx="2054160" cy="775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other ju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25"/>
          <p:cNvSpPr/>
          <p:nvPr/>
        </p:nvSpPr>
        <p:spPr>
          <a:xfrm>
            <a:off x="88920" y="1714680"/>
            <a:ext cx="528480" cy="27842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450720" y="366840"/>
            <a:ext cx="2832120" cy="757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roblem set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450720" y="4172040"/>
            <a:ext cx="2832120" cy="757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ss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ostscript generat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2"/>
          <p:cNvSpPr/>
          <p:nvPr/>
        </p:nvSpPr>
        <p:spPr>
          <a:xfrm>
            <a:off x="200160" y="5979960"/>
            <a:ext cx="4371840" cy="757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lustrator/Coreldraw/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aking it look good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8"/>
          <p:cNvSpPr/>
          <p:nvPr/>
        </p:nvSpPr>
        <p:spPr>
          <a:xfrm>
            <a:off x="1841400" y="4935600"/>
            <a:ext cx="6480" cy="252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9"/>
          <p:cNvSpPr/>
          <p:nvPr/>
        </p:nvSpPr>
        <p:spPr>
          <a:xfrm>
            <a:off x="1841400" y="5686560"/>
            <a:ext cx="444600" cy="293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3"/>
          <p:cNvSpPr/>
          <p:nvPr/>
        </p:nvSpPr>
        <p:spPr>
          <a:xfrm>
            <a:off x="1062000" y="5234040"/>
            <a:ext cx="1609920" cy="520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ps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2"/>
          <p:cNvSpPr/>
          <p:nvPr/>
        </p:nvSpPr>
        <p:spPr>
          <a:xfrm>
            <a:off x="4572000" y="3421080"/>
            <a:ext cx="2054160" cy="388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ssary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450720" y="2173320"/>
            <a:ext cx="2832120" cy="949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t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ree energy minimis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>
            <a:off x="6626160" y="1263600"/>
            <a:ext cx="1657440" cy="697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3"/>
          <p:cNvSpPr/>
          <p:nvPr/>
        </p:nvSpPr>
        <p:spPr>
          <a:xfrm>
            <a:off x="496800" y="1392120"/>
            <a:ext cx="2739960" cy="52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5"/>
          <p:cNvSpPr/>
          <p:nvPr/>
        </p:nvSpPr>
        <p:spPr>
          <a:xfrm>
            <a:off x="5562720" y="331920"/>
            <a:ext cx="3322440" cy="698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-member thermo data (e.g. H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2"/>
          <p:cNvSpPr/>
          <p:nvPr/>
        </p:nvSpPr>
        <p:spPr>
          <a:xfrm>
            <a:off x="6924600" y="2197080"/>
            <a:ext cx="1352520" cy="77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Group 27" descr=""/>
          <p:cNvPicPr/>
          <p:nvPr/>
        </p:nvPicPr>
        <p:blipFill>
          <a:blip r:embed="rId1"/>
          <a:stretch/>
        </p:blipFill>
        <p:spPr>
          <a:xfrm>
            <a:off x="1695600" y="3736800"/>
            <a:ext cx="1901520" cy="622440"/>
          </a:xfrm>
          <a:prstGeom prst="rect">
            <a:avLst/>
          </a:prstGeom>
          <a:ln w="0">
            <a:noFill/>
          </a:ln>
        </p:spPr>
      </p:pic>
      <p:sp>
        <p:nvSpPr>
          <p:cNvPr id="119" name="Oval 11"/>
          <p:cNvSpPr/>
          <p:nvPr/>
        </p:nvSpPr>
        <p:spPr>
          <a:xfrm>
            <a:off x="2841480" y="3421080"/>
            <a:ext cx="1559160" cy="388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0"/>
          <p:cNvSpPr/>
          <p:nvPr/>
        </p:nvSpPr>
        <p:spPr>
          <a:xfrm>
            <a:off x="853920" y="3421080"/>
            <a:ext cx="1818000" cy="388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7:07:51Z</dcterms:created>
  <dc:creator>Mark Caddick</dc:creator>
  <dc:description/>
  <dc:language>en-US</dc:language>
  <cp:lastModifiedBy>IMP Multimedia User</cp:lastModifiedBy>
  <dcterms:modified xsi:type="dcterms:W3CDTF">2009-02-28T19:29:12Z</dcterms:modified>
  <cp:revision>366</cp:revision>
  <dc:subject/>
  <dc:title>PowerPoint Presentation</dc:title>
</cp:coreProperties>
</file>